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893BD-48A5-4F1D-8286-6A9FA2E1C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894C4-DE49-4143-8500-600FE40E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92C11-1002-43B1-857E-25144C4C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E5AF5-CAF3-47C2-B5C2-6F0551DB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3B300-3239-40B1-AB55-6DBDAEF6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7FAA5-05F0-4755-AA1A-446C73EB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46D65B-CB48-47A7-8FB5-2E6842E4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0F638-2B94-4BB1-87BB-D9BE2EEB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7A977-3929-470F-8DE3-EB6D2D42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63BDA-47F6-41EF-B5C4-7382C5F29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0661E-535A-4C4E-96A8-D1AECE27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45461D-7807-44AA-9173-CF5E906F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ABFB3-C85D-4855-9BE3-B8DDCEF3A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DBA61A-B7A7-4675-A5EE-FCEAC342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166DF5-8E08-423C-942E-A3B91E81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C40258-8BB4-4617-9D37-757F6A4E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BE2D7B-1BEA-4AFE-BEFA-0A11D283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5DCE34-44F5-4CD7-A81B-9AD4EDA0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F19D46-4911-4DB4-99B3-941ECFB3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8E1B36-ED44-4CC4-9B76-FBD7B532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3B607B-A066-48E3-A78C-B3ABC806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5EA12C-A27D-44CE-9337-3152A224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F7A12B-7C5A-4DA6-8058-C67AE413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076DA-DD9D-4E04-8E98-DBAC47B40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559C20-741C-47FF-8DA1-B58EE524D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BF80D-1C3C-4E37-8D3F-FB4576F1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24C80-FCD2-4506-8A77-B1DB45F8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62749-9697-4E28-A37C-128B8511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24EC5-474C-4E71-AEB7-A25EA9E6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3249A-A855-4665-9AFF-AF0B33A1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09627-3882-48BA-A8B6-878684B9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A30C0-D728-4AE8-8A8E-851826E7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D7109-08A5-4F12-8D28-0698FF4C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872C3-FB4D-42CD-A72B-CCD8DCF7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DA73-CED3-4CEE-A6CE-956FE6D9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A7F45-58E1-4F3F-AAB2-2C6C0609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AD457-C10A-47B7-A522-334AE226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60F44-2703-48BC-B3F2-9D4601E5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604D3B-34FB-40AA-93B0-7FBC63155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FA416-DCCC-44F7-A67C-8D5D5B33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131095-5E52-4BB4-B60B-D41EFAC8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13233-093A-43C2-8B97-EF482BA0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71C198-1CCE-4DE7-8948-470E0014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EA04A0-B9AE-4208-9120-7F2F6461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1BAEF-383F-4C29-8D55-D79B5586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1B9D-B4B6-46E9-A966-36586F8B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0E4B8-C6B2-4FAB-8A95-B43C88CE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9467F8-2AA1-4325-B8BC-866E2D93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78E67-C340-4C3B-B529-C34C97AB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EF604-0920-44C8-A12B-5235C890A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340E7D-8C02-432C-B8D5-66B61D440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3889CD-1F6B-4D48-A68E-3280A848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0F5D5F-77A5-45BF-8944-08445451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1C5B1F-A33A-4685-AC29-6560E53B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6A019C-2DF2-4A31-8FF5-2D04F020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7DD2A1-0514-4583-93B3-B4B267CC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9285-FA7E-4EF1-8C4E-AF64736F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4C3595-2E11-4EC4-A35A-7117B7A9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1E7418-6CA3-4308-8C22-6F5BD070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071B67-6B77-46BC-9D8F-DFC34016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55C087-1CCA-4B67-BE87-41E62752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08541F-FC1A-4A85-9C2D-82BA919D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0E22CA-F52A-4BDE-8286-5D708F9F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0E1619-B85F-4F38-BB54-17461BCBC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817615-FC7C-4C3C-97CD-67DD7E08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0AFE30-8151-4F65-9AC5-42CC5FAC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5B168F-60B9-486F-8500-3562FBE0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836A-3D40-412D-804F-CA9A1057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5B1765-3213-4315-86E9-2B019CAF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A0E586-055B-4B3F-A6ED-7ED75F25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2C1D29-B5D8-42A4-BD4E-7A7B75BE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44E3AA-A0F5-4E9D-BB1D-81A13AB5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FD3EF8-86F2-4719-AD96-6E14C437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E72C22-5FF6-412A-ACF9-1E2D7D48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A3C4E1-0ABE-4B4A-9A9F-1AC675B4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3DF6C6-CE56-427E-B1FC-FBB096DA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EFF652-B5C9-4874-85CE-177DEA11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34DE-D9D4-42AF-968B-F99BD488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0965-C212-49F2-8BC8-FE5F790F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2CD1-490A-4FF6-8399-1D68F2A3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3DAC1-CB16-48DC-9670-6135D84C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F770-2AC3-4F7C-8DEE-00C76132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244A-183A-44D7-AD5A-B5424C8C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610B-5A14-4FF6-854C-A35359C5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7CBD-02DD-4636-93E6-F6BB7032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91C1-6D22-4975-8567-C3E12075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3BD94-4690-4F0B-AD59-0FF23667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EBE05-4889-490D-8072-777DEC21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43E0D-1471-43F6-8372-6CC588B7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6E438-CBCD-4835-97C4-DF60FD70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13EB9-54E2-498C-9FBC-8922EAA8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916DE-54DC-4EFF-893A-E05599DA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E3914-329D-4EEC-A978-A8EE7C25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44B82-46CD-4798-A09A-B10F688D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1BA3B-3557-4254-8F7A-198CBBAE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214D6-848E-4329-8FD4-A2FAA8F3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C00CA-734A-40C7-8AD9-F653990A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04B21-071F-4577-B4FA-6EA307F4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AE416-6651-4138-836D-468AE5DD5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A5906-760C-4D74-BE39-608EE98BE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D3C89-8B2C-4A6E-822D-621E396A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80B19-BFA2-4F86-BC4D-89F8E6DF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B7D78-CA77-4E97-83FE-31F2B19D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26B0D-5C50-473F-A078-D9FEE7D0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52173-41B5-48A5-9482-9C7892B7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4F2C6-089E-46A6-AE81-6FDA1FB0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E9E78-11C1-4F93-AA8A-44FACE5A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134AB-BE29-4906-9CC0-53F57958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718DA-355A-47BE-B500-84D335FF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857C1-BD69-48F1-8ABF-87CC98D6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FC07A-1AB6-4A8C-BA2B-9A7506B1E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732C6-AF97-4ADD-B3DB-CB46CE996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EF544-B0C9-4E8C-BA7B-F820446CE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9D940-E503-4927-8213-4C8D8930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A9450-5403-4C42-9E97-58AB48D8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5F994-5DE8-4AEB-A270-F730E113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736BA-F200-42DB-97C9-7B857AF3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82FB8-2B47-4351-BE07-E5C6C71A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E4F2D-BC2E-4EED-9690-3AC26DDC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8E8B5-EC2A-424D-BBD0-C1246B02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919E4-E31A-453A-B8EF-9AE66EEF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3EC25-5FE0-4BFE-8959-DACFF7A7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5ECE2-F9BF-4883-858E-27FFDEE8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3D133-B885-4CF4-8883-DE7356274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BFED0-BA55-4AEF-B9A2-1EAC3520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53F0D-55E5-444B-B09D-ADB8A464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1DD66-9000-497B-98D3-59BC4C8CC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6B89B-9F70-410D-BE30-DC47A51B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951E1-7589-4C0C-A4C5-AD4014A3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616ED-69AF-458D-849C-B7E0BB2C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13EAF-0D56-4C93-A5A9-1230653D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67B32-5E07-480E-9772-071F6B7E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B1795-FD5F-47AD-B999-192583B0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2F013-A84C-4C36-90FD-5BD9E0FB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819DD-F7C0-4E73-AB03-AF74330F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8B45D-455B-4CFF-A3ED-4986401E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FF7B6-A904-483A-9B67-9ED4167A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30EB1-6E95-4852-8C06-CECCD0737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8BEA3-596A-4F7B-9CA0-ACF77BB6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434D0-E209-4DA8-98EA-6060C544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9DE8E-3E5E-4FAD-9F2B-D083C329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5A492-7958-4256-B90B-24CB510B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DAD68-1C44-4349-8469-E2819B4E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3E74E-6549-4A62-9261-FD2E4B74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455E7-7807-4216-BD50-1BF8FBFC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CD833-5B5E-493B-B5DA-80A0D010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A3384-28B9-4AC5-B911-1C5117EA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B62D4-BF7C-4EA6-897A-5660388B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DEFEC-9E7F-42DF-AF9C-2EF6C28C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46A54-2E25-4857-9625-C596E3A0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44A60-8E3E-4554-8C2D-0AAD237C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D655D-FC12-4700-9364-B61C350A5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4FC53-B404-4A8B-A249-C8E80933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F4BFA-62A6-4CBD-B22D-1EABAC88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D06BE-4B0B-42CF-B7CD-198738D8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4E4C4-2089-4516-86AD-9A61D510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B5132-A0F9-40BD-A33D-17EA1F37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61D26-1020-46B7-BA32-89D8E696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D8FDA-936D-4305-A0BB-DC2B7CD9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547B6-D7F1-4809-AAE7-C1627BD6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D0BB6-5603-4A9E-9C3A-7377B0DA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088B1-3621-4752-BBD7-996EF22D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0BE82-28E2-4323-A68A-3BB428B5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FA7FA-1ED9-49EC-8A06-A263DE33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893BA-504F-49E4-BDFF-D1B32D7A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BEAB7-FDE2-42DB-9DB9-DDCAB700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EB53C-EB49-4BAB-9272-29776F3D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78BE4-9D3C-4578-B955-C68435C4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350B-4482-433D-AF94-4A720F04B9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7" name="Picture 7" descr="Carter Branding Lge Image"/>
          <p:cNvPicPr/>
          <p:nvPr/>
        </p:nvPicPr>
        <p:blipFill>
          <a:blip r:embed="rId2"/>
          <a:stretch/>
        </p:blipFill>
        <p:spPr>
          <a:xfrm>
            <a:off x="0" y="1440"/>
            <a:ext cx="9144000" cy="69091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8" descr="Carter Logo Jpg 100127"/>
          <p:cNvPicPr/>
          <p:nvPr/>
        </p:nvPicPr>
        <p:blipFill>
          <a:blip r:embed="rId3"/>
          <a:stretch/>
        </p:blipFill>
        <p:spPr>
          <a:xfrm>
            <a:off x="7569360" y="5334120"/>
            <a:ext cx="1193760" cy="1447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29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65CD-8E2E-43E6-AECF-F3384B0288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ftr" idx="30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2F4B-BC55-4424-A725-6C31066E12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745D-DE22-4F96-A6ED-85BDD82F5D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12CF-C028-479A-85CE-E3FB4F8010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41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42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6B36-5835-4D9E-A3A5-BE6C60F517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9537-0405-4604-8DDB-165D215F1D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BA0F-0A69-441D-B008-C3CA8ADC2C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F3F4-78F1-44A0-A417-0E0190867E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EED3-036B-4499-B4C4-DDD37D319C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3539-664E-486E-B978-C716CD0B7B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9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20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2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1F95-C9E2-44F4-A0C8-A53BD2A6B1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22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3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4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78DF-7CBA-4C6A-8D2F-EB472B696A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5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6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7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1C51-F1A9-4B3F-882F-D2E02762E9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5"/>
          <p:cNvSpPr/>
          <p:nvPr/>
        </p:nvSpPr>
        <p:spPr>
          <a:xfrm>
            <a:off x="152280" y="152280"/>
            <a:ext cx="8839440" cy="6575400"/>
          </a:xfrm>
          <a:prstGeom prst="rect">
            <a:avLst/>
          </a:prstGeom>
          <a:noFill/>
          <a:ln w="25560">
            <a:solidFill>
              <a:srgbClr val="3c3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Arial Rounded MT Bold"/>
              </a:rPr>
              <a:t>The World Around Us: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800000"/>
                </a:solidFill>
                <a:latin typeface="Arial Rounded MT Bold"/>
              </a:rPr>
              <a:t>day and night</a:t>
            </a:r>
            <a:endParaRPr b="0" lang="en-US" sz="54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80" name="Picture 3" descr=""/>
          <p:cNvPicPr/>
          <p:nvPr/>
        </p:nvPicPr>
        <p:blipFill>
          <a:blip r:embed="rId1"/>
          <a:stretch/>
        </p:blipFill>
        <p:spPr>
          <a:xfrm>
            <a:off x="6224760" y="5410080"/>
            <a:ext cx="27432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9"/>
          <p:cNvSpPr/>
          <p:nvPr/>
        </p:nvSpPr>
        <p:spPr>
          <a:xfrm>
            <a:off x="152280" y="152280"/>
            <a:ext cx="8839440" cy="6575400"/>
          </a:xfrm>
          <a:prstGeom prst="rect">
            <a:avLst/>
          </a:prstGeom>
          <a:noFill/>
          <a:ln w="25560">
            <a:solidFill>
              <a:srgbClr val="3c3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800000"/>
                </a:solidFill>
                <a:latin typeface="Arial Rounded MT Bold"/>
              </a:rPr>
              <a:t>Look at these </a:t>
            </a:r>
            <a:br>
              <a:rPr sz="3800"/>
            </a:br>
            <a:r>
              <a:rPr b="0" lang="en-NZ" sz="3800" spc="-1" strike="noStrike">
                <a:solidFill>
                  <a:srgbClr val="800000"/>
                </a:solidFill>
                <a:latin typeface="Arial Rounded MT Bold"/>
              </a:rPr>
              <a:t>Solar System objects</a:t>
            </a:r>
            <a:endParaRPr b="0" lang="en-US" sz="3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3" name="Rectangle 9"/>
          <p:cNvSpPr/>
          <p:nvPr/>
        </p:nvSpPr>
        <p:spPr>
          <a:xfrm>
            <a:off x="152280" y="2286000"/>
            <a:ext cx="8839440" cy="2743200"/>
          </a:xfrm>
          <a:prstGeom prst="rect">
            <a:avLst/>
          </a:prstGeom>
          <a:solidFill>
            <a:srgbClr val="2f2b20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584" name="Picture 6" descr="earth"/>
          <p:cNvPicPr/>
          <p:nvPr/>
        </p:nvPicPr>
        <p:blipFill>
          <a:blip r:embed="rId1"/>
          <a:srcRect l="0" t="4337" r="0" b="4829"/>
          <a:stretch/>
        </p:blipFill>
        <p:spPr>
          <a:xfrm>
            <a:off x="2951280" y="2360520"/>
            <a:ext cx="3166920" cy="25941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" descr="full_moon_tim_hunter-400x387"/>
          <p:cNvPicPr/>
          <p:nvPr/>
        </p:nvPicPr>
        <p:blipFill>
          <a:blip r:embed="rId2"/>
          <a:stretch/>
        </p:blipFill>
        <p:spPr>
          <a:xfrm>
            <a:off x="6138720" y="2584440"/>
            <a:ext cx="2349720" cy="23749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8" descr="sun image"/>
          <p:cNvPicPr/>
          <p:nvPr/>
        </p:nvPicPr>
        <p:blipFill>
          <a:blip r:embed="rId3"/>
          <a:srcRect l="6817" t="2232" r="0" b="9470"/>
          <a:stretch/>
        </p:blipFill>
        <p:spPr>
          <a:xfrm>
            <a:off x="152280" y="2286000"/>
            <a:ext cx="2927520" cy="2743200"/>
          </a:xfrm>
          <a:prstGeom prst="rect">
            <a:avLst/>
          </a:prstGeom>
          <a:ln w="0">
            <a:noFill/>
          </a:ln>
        </p:spPr>
      </p:pic>
      <p:sp>
        <p:nvSpPr>
          <p:cNvPr id="587" name="TextBox 17"/>
          <p:cNvSpPr/>
          <p:nvPr/>
        </p:nvSpPr>
        <p:spPr>
          <a:xfrm>
            <a:off x="3048120" y="550404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d873e"/>
                </a:solidFill>
                <a:latin typeface="Arial Rounded MT Bold"/>
              </a:rPr>
              <a:t>What are they?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3"/>
          <p:cNvSpPr/>
          <p:nvPr/>
        </p:nvSpPr>
        <p:spPr>
          <a:xfrm>
            <a:off x="152280" y="152280"/>
            <a:ext cx="8839440" cy="6575400"/>
          </a:xfrm>
          <a:prstGeom prst="rect">
            <a:avLst/>
          </a:prstGeom>
          <a:noFill/>
          <a:ln w="25560">
            <a:solidFill>
              <a:srgbClr val="3c3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00"/>
                </a:solidFill>
                <a:latin typeface="Arial Rounded MT Bold"/>
              </a:rPr>
              <a:t>How do we get day and night?</a:t>
            </a:r>
            <a:endParaRPr b="0" lang="en-US" sz="3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267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91" name="Picture 6" descr="clem_india_saudi"/>
          <p:cNvPicPr/>
          <p:nvPr/>
        </p:nvPicPr>
        <p:blipFill>
          <a:blip r:embed="rId1"/>
          <a:stretch/>
        </p:blipFill>
        <p:spPr>
          <a:xfrm>
            <a:off x="4938840" y="1523880"/>
            <a:ext cx="3381120" cy="335304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2"/>
          <p:cNvSpPr/>
          <p:nvPr/>
        </p:nvSpPr>
        <p:spPr>
          <a:xfrm>
            <a:off x="4876920" y="5029200"/>
            <a:ext cx="350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 Rounded MT Bold"/>
              </a:rPr>
              <a:t>      </a:t>
            </a:r>
            <a:r>
              <a:rPr b="0" lang="en-US" sz="2800" spc="-1" strike="noStrike">
                <a:solidFill>
                  <a:srgbClr val="8d873e"/>
                </a:solidFill>
                <a:latin typeface="Arial Rounded MT Bold"/>
              </a:rPr>
              <a:t>The Earth only  takes 1 day to spin around once!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93" name="Rounded Rectangle 3"/>
          <p:cNvSpPr/>
          <p:nvPr/>
        </p:nvSpPr>
        <p:spPr>
          <a:xfrm>
            <a:off x="380880" y="1600200"/>
            <a:ext cx="4038840" cy="2057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533520" y="1585800"/>
            <a:ext cx="3886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d873e"/>
                </a:solidFill>
                <a:latin typeface="Arial Rounded MT Bold"/>
              </a:rPr>
              <a:t>We get </a:t>
            </a: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daytime</a:t>
            </a:r>
            <a:r>
              <a:rPr b="0" lang="en-US" sz="3200" spc="-1" strike="noStrike">
                <a:solidFill>
                  <a:srgbClr val="800000"/>
                </a:solidFill>
                <a:latin typeface="Arial Rounded MT Bold"/>
              </a:rPr>
              <a:t> </a:t>
            </a:r>
            <a:r>
              <a:rPr b="0" lang="en-US" sz="3200" spc="-1" strike="noStrike">
                <a:solidFill>
                  <a:srgbClr val="8d873e"/>
                </a:solidFill>
                <a:latin typeface="Arial Rounded MT Bold"/>
              </a:rPr>
              <a:t>when a part of the Earth is pointing </a:t>
            </a: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towards</a:t>
            </a:r>
            <a:r>
              <a:rPr b="0" lang="en-US" sz="3200" spc="-1" strike="noStrike">
                <a:solidFill>
                  <a:srgbClr val="8d873e"/>
                </a:solidFill>
                <a:latin typeface="Arial Rounded MT Bold"/>
              </a:rPr>
              <a:t> the Sun.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95" name="Rectangle 5"/>
          <p:cNvSpPr/>
          <p:nvPr/>
        </p:nvSpPr>
        <p:spPr>
          <a:xfrm>
            <a:off x="544680" y="4186080"/>
            <a:ext cx="3946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d873e"/>
                </a:solidFill>
                <a:latin typeface="Arial Rounded MT Bold"/>
              </a:rPr>
              <a:t>We get </a:t>
            </a: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night time </a:t>
            </a:r>
            <a:r>
              <a:rPr b="0" lang="en-US" sz="3200" spc="-1" strike="noStrike">
                <a:solidFill>
                  <a:srgbClr val="8d873e"/>
                </a:solidFill>
                <a:latin typeface="Arial Rounded MT Bold"/>
              </a:rPr>
              <a:t>when a part of the Earth is pointing </a:t>
            </a:r>
            <a:r>
              <a:rPr b="1" lang="en-US" sz="3200" spc="-1" strike="noStrike">
                <a:solidFill>
                  <a:srgbClr val="800000"/>
                </a:solidFill>
                <a:latin typeface="Arial Rounded MT Bold"/>
              </a:rPr>
              <a:t>away</a:t>
            </a:r>
            <a:r>
              <a:rPr b="0" lang="en-US" sz="3200" spc="-1" strike="noStrike">
                <a:solidFill>
                  <a:srgbClr val="8d873e"/>
                </a:solidFill>
                <a:latin typeface="Arial Rounded MT Bold"/>
              </a:rPr>
              <a:t> the Sun.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96" name="Rounded Rectangle 9"/>
          <p:cNvSpPr/>
          <p:nvPr/>
        </p:nvSpPr>
        <p:spPr>
          <a:xfrm>
            <a:off x="372960" y="4191120"/>
            <a:ext cx="4046760" cy="2057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597" name="Straight Arrow Connector 7"/>
          <p:cNvCxnSpPr/>
          <p:nvPr/>
        </p:nvCxnSpPr>
        <p:spPr>
          <a:xfrm>
            <a:off x="4419360" y="2133360"/>
            <a:ext cx="1524600" cy="1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598" name="Straight Arrow Connector 13"/>
          <p:cNvCxnSpPr/>
          <p:nvPr/>
        </p:nvCxnSpPr>
        <p:spPr>
          <a:xfrm flipV="1">
            <a:off x="4419720" y="4037760"/>
            <a:ext cx="1753200" cy="61524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pic>
        <p:nvPicPr>
          <p:cNvPr id="599" name="Picture 6" descr="C:\Users\Becky.Bateman\AppData\Local\Microsoft\Windows\Temporary Internet Files\Content.IE5\96FGOXJS\MC900384174[1].wmf"/>
          <p:cNvPicPr/>
          <p:nvPr/>
        </p:nvPicPr>
        <p:blipFill>
          <a:blip r:embed="rId2"/>
          <a:stretch/>
        </p:blipFill>
        <p:spPr>
          <a:xfrm>
            <a:off x="5029200" y="5064120"/>
            <a:ext cx="461880" cy="49860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12"/>
          <p:cNvSpPr/>
          <p:nvPr/>
        </p:nvSpPr>
        <p:spPr>
          <a:xfrm>
            <a:off x="4876920" y="1447920"/>
            <a:ext cx="3504960" cy="3504960"/>
          </a:xfrm>
          <a:prstGeom prst="rect">
            <a:avLst/>
          </a:prstGeom>
          <a:noFill/>
          <a:ln w="255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8"/>
          <p:cNvSpPr/>
          <p:nvPr/>
        </p:nvSpPr>
        <p:spPr>
          <a:xfrm>
            <a:off x="152280" y="152280"/>
            <a:ext cx="8839440" cy="6575400"/>
          </a:xfrm>
          <a:prstGeom prst="rect">
            <a:avLst/>
          </a:prstGeom>
          <a:noFill/>
          <a:ln w="25560">
            <a:solidFill>
              <a:srgbClr val="3c3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00"/>
                </a:solidFill>
                <a:latin typeface="Arial Rounded MT Bold"/>
              </a:rPr>
              <a:t>The Sun during the day</a:t>
            </a:r>
            <a:endParaRPr b="0" lang="en-US" sz="3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873e"/>
                </a:solidFill>
                <a:latin typeface="Arial Rounded MT Bold"/>
              </a:rPr>
              <a:t>The Sun looks like it moves across the sky during the day, but it is </a:t>
            </a:r>
            <a:r>
              <a:rPr b="1" lang="en-US" sz="2800" spc="-1" strike="noStrike">
                <a:solidFill>
                  <a:srgbClr val="800000"/>
                </a:solidFill>
                <a:latin typeface="Arial Rounded MT Bold"/>
              </a:rPr>
              <a:t>actually the Earth moving!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873e"/>
                </a:solidFill>
                <a:latin typeface="Arial Rounded MT Bold"/>
              </a:rPr>
              <a:t>We say the sun rises in the </a:t>
            </a:r>
            <a:r>
              <a:rPr b="1" lang="en-US" sz="2800" spc="-1" strike="noStrike">
                <a:solidFill>
                  <a:srgbClr val="800000"/>
                </a:solidFill>
                <a:latin typeface="Arial Rounded MT Bold"/>
              </a:rPr>
              <a:t>East</a:t>
            </a:r>
            <a:r>
              <a:rPr b="0" lang="en-US" sz="2800" spc="-1" strike="noStrike">
                <a:solidFill>
                  <a:srgbClr val="8000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8d873e"/>
                </a:solidFill>
                <a:latin typeface="Arial Rounded MT Bold"/>
              </a:rPr>
              <a:t>and sets in the </a:t>
            </a:r>
            <a:r>
              <a:rPr b="1" lang="en-US" sz="2800" spc="-1" strike="noStrike">
                <a:solidFill>
                  <a:srgbClr val="800000"/>
                </a:solidFill>
                <a:latin typeface="Arial Rounded MT Bold"/>
              </a:rPr>
              <a:t>West</a:t>
            </a:r>
            <a:r>
              <a:rPr b="0" lang="en-US" sz="2800" spc="-1" strike="noStrike">
                <a:solidFill>
                  <a:srgbClr val="8d873e"/>
                </a:solidFill>
                <a:latin typeface="Arial Rounded MT Bold"/>
              </a:rPr>
              <a:t>.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873e"/>
                </a:solidFill>
                <a:latin typeface="Arial Rounded MT Bold"/>
              </a:rPr>
              <a:t>Where is the Sun at midday?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04" name="Picture 7" descr="P1030154"/>
          <p:cNvPicPr/>
          <p:nvPr/>
        </p:nvPicPr>
        <p:blipFill>
          <a:blip r:embed="rId1"/>
          <a:stretch/>
        </p:blipFill>
        <p:spPr>
          <a:xfrm>
            <a:off x="1447920" y="1878120"/>
            <a:ext cx="2463840" cy="1847880"/>
          </a:xfrm>
          <a:prstGeom prst="rect">
            <a:avLst/>
          </a:prstGeom>
          <a:ln w="9360">
            <a:solidFill>
              <a:srgbClr val="2f2b20"/>
            </a:solidFill>
            <a:miter/>
          </a:ln>
        </p:spPr>
      </p:pic>
      <p:pic>
        <p:nvPicPr>
          <p:cNvPr id="605" name="Picture 7" descr="P1030150"/>
          <p:cNvPicPr/>
          <p:nvPr/>
        </p:nvPicPr>
        <p:blipFill>
          <a:blip r:embed="rId2"/>
          <a:stretch/>
        </p:blipFill>
        <p:spPr>
          <a:xfrm>
            <a:off x="1447920" y="4030560"/>
            <a:ext cx="2463840" cy="1847880"/>
          </a:xfrm>
          <a:prstGeom prst="rect">
            <a:avLst/>
          </a:prstGeom>
          <a:ln w="9360">
            <a:solidFill>
              <a:srgbClr val="2f2b20"/>
            </a:solidFill>
            <a:miter/>
          </a:ln>
        </p:spPr>
      </p:pic>
      <p:sp>
        <p:nvSpPr>
          <p:cNvPr id="606" name="TextBox 14"/>
          <p:cNvSpPr/>
          <p:nvPr/>
        </p:nvSpPr>
        <p:spPr>
          <a:xfrm>
            <a:off x="1841400" y="1447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d873e"/>
                </a:solidFill>
                <a:latin typeface="Arial Rounded MT Bold"/>
              </a:rPr>
              <a:t>Looking East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07" name="TextBox 15"/>
          <p:cNvSpPr/>
          <p:nvPr/>
        </p:nvSpPr>
        <p:spPr>
          <a:xfrm>
            <a:off x="1862280" y="59342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 Rounded MT Bold"/>
              </a:rPr>
              <a:t>Looking West </a:t>
            </a: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08" name="Rectangle 16"/>
          <p:cNvSpPr/>
          <p:nvPr/>
        </p:nvSpPr>
        <p:spPr>
          <a:xfrm>
            <a:off x="1066680" y="1371600"/>
            <a:ext cx="3200400" cy="5013360"/>
          </a:xfrm>
          <a:prstGeom prst="rect">
            <a:avLst/>
          </a:prstGeom>
          <a:noFill/>
          <a:ln w="255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9"/>
          <p:cNvSpPr/>
          <p:nvPr/>
        </p:nvSpPr>
        <p:spPr>
          <a:xfrm>
            <a:off x="152280" y="152280"/>
            <a:ext cx="8839440" cy="6575400"/>
          </a:xfrm>
          <a:prstGeom prst="rect">
            <a:avLst/>
          </a:prstGeom>
          <a:noFill/>
          <a:ln w="25560">
            <a:solidFill>
              <a:srgbClr val="3c3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800000"/>
                </a:solidFill>
                <a:latin typeface="Arial Rounded MT Bold"/>
              </a:rPr>
              <a:t>What do we see in the day time sky?</a:t>
            </a:r>
            <a:endParaRPr b="0" lang="en-US" sz="39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1531800"/>
            <a:ext cx="82296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d873e"/>
                </a:solidFill>
                <a:latin typeface="Arial Rounded MT Bold"/>
              </a:rPr>
              <a:t>	</a:t>
            </a:r>
            <a:r>
              <a:rPr b="0" lang="en-US" sz="2200" spc="-1" strike="noStrike">
                <a:solidFill>
                  <a:srgbClr val="8d873e"/>
                </a:solidFill>
                <a:latin typeface="Arial Rounded MT Bold"/>
              </a:rPr>
              <a:t>Talk to the person next to you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d873e"/>
                </a:solidFill>
                <a:latin typeface="Arial Rounded MT Bold"/>
              </a:rPr>
              <a:t>Can you think of 3 things that we see in the day time sky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d873e"/>
                </a:solidFill>
                <a:latin typeface="Arial Rounded MT Bold"/>
              </a:rPr>
              <a:t>What animals are awake in the day time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8"/>
          <p:cNvSpPr/>
          <p:nvPr/>
        </p:nvSpPr>
        <p:spPr>
          <a:xfrm>
            <a:off x="152280" y="152280"/>
            <a:ext cx="8839440" cy="6575400"/>
          </a:xfrm>
          <a:prstGeom prst="rect">
            <a:avLst/>
          </a:prstGeom>
          <a:noFill/>
          <a:ln w="25560">
            <a:solidFill>
              <a:srgbClr val="3c3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800000"/>
                </a:solidFill>
                <a:latin typeface="Arial Rounded MT Bold"/>
              </a:rPr>
              <a:t> </a:t>
            </a:r>
            <a:r>
              <a:rPr b="0" lang="en-US" sz="3700" spc="-1" strike="noStrike">
                <a:solidFill>
                  <a:srgbClr val="800000"/>
                </a:solidFill>
                <a:latin typeface="Arial Rounded MT Bold"/>
              </a:rPr>
              <a:t>What do we see in the night time sky?</a:t>
            </a:r>
            <a:endParaRPr b="0" lang="en-US" sz="37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14" name="Picture 8" descr="southern-cross-and-pointers1"/>
          <p:cNvPicPr/>
          <p:nvPr/>
        </p:nvPicPr>
        <p:blipFill>
          <a:blip r:embed="rId1"/>
          <a:stretch/>
        </p:blipFill>
        <p:spPr>
          <a:xfrm>
            <a:off x="2895480" y="1531800"/>
            <a:ext cx="3238560" cy="24130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10" descr="moon fq"/>
          <p:cNvPicPr/>
          <p:nvPr/>
        </p:nvPicPr>
        <p:blipFill>
          <a:blip r:embed="rId2"/>
          <a:stretch/>
        </p:blipFill>
        <p:spPr>
          <a:xfrm>
            <a:off x="254160" y="1531800"/>
            <a:ext cx="2412720" cy="24130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13" descr=""/>
          <p:cNvPicPr/>
          <p:nvPr/>
        </p:nvPicPr>
        <p:blipFill>
          <a:blip r:embed="rId3"/>
          <a:stretch/>
        </p:blipFill>
        <p:spPr>
          <a:xfrm>
            <a:off x="6324480" y="1531800"/>
            <a:ext cx="2571840" cy="2413080"/>
          </a:xfrm>
          <a:prstGeom prst="rect">
            <a:avLst/>
          </a:prstGeom>
          <a:ln w="0">
            <a:noFill/>
          </a:ln>
        </p:spPr>
      </p:pic>
      <p:sp>
        <p:nvSpPr>
          <p:cNvPr id="617" name="TextBox 14"/>
          <p:cNvSpPr/>
          <p:nvPr/>
        </p:nvSpPr>
        <p:spPr>
          <a:xfrm>
            <a:off x="609480" y="4230720"/>
            <a:ext cx="8153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873e"/>
                </a:solidFill>
                <a:latin typeface="Arial Rounded MT Bold"/>
              </a:rPr>
              <a:t>The Moon is the only object that we can easily see in the day time and the night time sky!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873e"/>
                </a:solidFill>
                <a:latin typeface="Arial Rounded MT Bold"/>
              </a:rPr>
              <a:t>The Moon makes different shapes over a month. But how?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9"/>
          <p:cNvSpPr/>
          <p:nvPr/>
        </p:nvSpPr>
        <p:spPr>
          <a:xfrm>
            <a:off x="152280" y="152280"/>
            <a:ext cx="8839440" cy="6575400"/>
          </a:xfrm>
          <a:prstGeom prst="rect">
            <a:avLst/>
          </a:prstGeom>
          <a:noFill/>
          <a:ln w="25560">
            <a:solidFill>
              <a:srgbClr val="3c3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00"/>
                </a:solidFill>
                <a:latin typeface="Arial Rounded MT Bold"/>
              </a:rPr>
              <a:t>The Moon has night and day too!</a:t>
            </a:r>
            <a:endParaRPr b="0" lang="en-US" sz="38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20" name="Picture 8" descr="0803-lens-webcam-moon-b-large"/>
          <p:cNvPicPr/>
          <p:nvPr/>
        </p:nvPicPr>
        <p:blipFill>
          <a:blip r:embed="rId1"/>
          <a:stretch/>
        </p:blipFill>
        <p:spPr>
          <a:xfrm>
            <a:off x="4038480" y="1371600"/>
            <a:ext cx="4719600" cy="3538440"/>
          </a:xfrm>
          <a:prstGeom prst="rect">
            <a:avLst/>
          </a:prstGeom>
          <a:ln w="9360">
            <a:solidFill>
              <a:srgbClr val="2f2b20"/>
            </a:solidFill>
            <a:miter/>
          </a:ln>
        </p:spPr>
      </p:pic>
      <p:sp>
        <p:nvSpPr>
          <p:cNvPr id="621" name="Rounded Rectangle 11"/>
          <p:cNvSpPr/>
          <p:nvPr/>
        </p:nvSpPr>
        <p:spPr>
          <a:xfrm>
            <a:off x="380880" y="1600200"/>
            <a:ext cx="3505320" cy="2246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22" name="Rectangle 12"/>
          <p:cNvSpPr/>
          <p:nvPr/>
        </p:nvSpPr>
        <p:spPr>
          <a:xfrm>
            <a:off x="469800" y="1600200"/>
            <a:ext cx="3264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873e"/>
                </a:solidFill>
                <a:latin typeface="Arial Rounded MT Bold"/>
              </a:rPr>
              <a:t>It is </a:t>
            </a:r>
            <a:r>
              <a:rPr b="1" lang="en-US" sz="2800" spc="-1" strike="noStrike">
                <a:solidFill>
                  <a:srgbClr val="800000"/>
                </a:solidFill>
                <a:latin typeface="Arial Rounded MT Bold"/>
              </a:rPr>
              <a:t>daytime</a:t>
            </a:r>
            <a:r>
              <a:rPr b="0" lang="en-US" sz="2800" spc="-1" strike="noStrike">
                <a:solidFill>
                  <a:srgbClr val="8000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8d873e"/>
                </a:solidFill>
                <a:latin typeface="Arial Rounded MT Bold"/>
              </a:rPr>
              <a:t>on the part of the Moon that is pointing </a:t>
            </a:r>
            <a:r>
              <a:rPr b="1" lang="en-US" sz="2800" spc="-1" strike="noStrike">
                <a:solidFill>
                  <a:srgbClr val="800000"/>
                </a:solidFill>
                <a:latin typeface="Arial Rounded MT Bold"/>
              </a:rPr>
              <a:t>towards</a:t>
            </a:r>
            <a:r>
              <a:rPr b="0" lang="en-US" sz="2800" spc="-1" strike="noStrike">
                <a:solidFill>
                  <a:srgbClr val="8d873e"/>
                </a:solidFill>
                <a:latin typeface="Arial Rounded MT Bold"/>
              </a:rPr>
              <a:t> the Sun.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623" name="Straight Arrow Connector 4"/>
          <p:cNvCxnSpPr/>
          <p:nvPr/>
        </p:nvCxnSpPr>
        <p:spPr>
          <a:xfrm>
            <a:off x="3885840" y="2598480"/>
            <a:ext cx="1067400" cy="1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624" name="Rounded Rectangle 14"/>
          <p:cNvSpPr/>
          <p:nvPr/>
        </p:nvSpPr>
        <p:spPr>
          <a:xfrm>
            <a:off x="4127400" y="5119560"/>
            <a:ext cx="3416400" cy="954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25" name="TextBox 15"/>
          <p:cNvSpPr/>
          <p:nvPr/>
        </p:nvSpPr>
        <p:spPr>
          <a:xfrm>
            <a:off x="4127400" y="5119560"/>
            <a:ext cx="341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873e"/>
                </a:solidFill>
                <a:latin typeface="Arial Rounded MT Bold"/>
              </a:rPr>
              <a:t>What is happening here? </a:t>
            </a:r>
            <a:endParaRPr b="0" lang="en-US" sz="28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626" name="Straight Arrow Connector 19"/>
          <p:cNvCxnSpPr/>
          <p:nvPr/>
        </p:nvCxnSpPr>
        <p:spPr>
          <a:xfrm flipV="1">
            <a:off x="7314840" y="4037760"/>
            <a:ext cx="229320" cy="108180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pic>
        <p:nvPicPr>
          <p:cNvPr id="627" name="Picture 6" descr="C:\Users\Becky.Bateman\AppData\Local\Microsoft\Windows\Temporary Internet Files\Content.IE5\96FGOXJS\MC900384174[1].wmf"/>
          <p:cNvPicPr/>
          <p:nvPr/>
        </p:nvPicPr>
        <p:blipFill>
          <a:blip r:embed="rId2"/>
          <a:stretch/>
        </p:blipFill>
        <p:spPr>
          <a:xfrm>
            <a:off x="609480" y="4454640"/>
            <a:ext cx="462240" cy="498240"/>
          </a:xfrm>
          <a:prstGeom prst="rect">
            <a:avLst/>
          </a:prstGeom>
          <a:ln w="0">
            <a:noFill/>
          </a:ln>
        </p:spPr>
      </p:pic>
      <p:sp>
        <p:nvSpPr>
          <p:cNvPr id="628" name="TextBox 22"/>
          <p:cNvSpPr/>
          <p:nvPr/>
        </p:nvSpPr>
        <p:spPr>
          <a:xfrm>
            <a:off x="469800" y="4578480"/>
            <a:ext cx="305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 Rounded MT Bold"/>
              </a:rPr>
              <a:t>       </a:t>
            </a:r>
            <a:r>
              <a:rPr b="0" lang="en-US" sz="2400" spc="-1" strike="noStrike">
                <a:solidFill>
                  <a:srgbClr val="800000"/>
                </a:solidFill>
                <a:latin typeface="Arial Rounded MT Bold"/>
              </a:rPr>
              <a:t>Do you think planets have day time and night time too?</a:t>
            </a:r>
            <a:endParaRPr b="0" lang="en-US" sz="24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8"/>
          <p:cNvSpPr/>
          <p:nvPr/>
        </p:nvSpPr>
        <p:spPr>
          <a:xfrm>
            <a:off x="152280" y="152280"/>
            <a:ext cx="8839440" cy="6575400"/>
          </a:xfrm>
          <a:prstGeom prst="rect">
            <a:avLst/>
          </a:prstGeom>
          <a:noFill/>
          <a:ln w="25560">
            <a:solidFill>
              <a:srgbClr val="3c37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800000"/>
                </a:solidFill>
                <a:latin typeface="Arial Rounded MT Bold"/>
              </a:rPr>
              <a:t>Our night time sky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d873e"/>
                </a:solidFill>
                <a:latin typeface="Arial Rounded MT Bold"/>
              </a:rPr>
              <a:t>The stars look like they are moving slowly at night, but actually they are still and the </a:t>
            </a:r>
            <a:r>
              <a:rPr b="1" lang="en-US" sz="2400" spc="-1" strike="noStrike">
                <a:solidFill>
                  <a:srgbClr val="800000"/>
                </a:solidFill>
                <a:latin typeface="Arial Rounded MT Bold"/>
              </a:rPr>
              <a:t>Earth is moving</a:t>
            </a:r>
            <a:r>
              <a:rPr b="0" lang="en-US" sz="2400" spc="-1" strike="noStrike">
                <a:solidFill>
                  <a:srgbClr val="800000"/>
                </a:solidFill>
                <a:latin typeface="Arial Rounded MT Bold"/>
              </a:rPr>
              <a:t>!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d873e"/>
                </a:solidFill>
                <a:latin typeface="Arial Rounded MT Bold"/>
              </a:rPr>
              <a:t>We say that stars rise in the </a:t>
            </a:r>
            <a:r>
              <a:rPr b="1" lang="en-US" sz="2400" spc="-1" strike="noStrike">
                <a:solidFill>
                  <a:srgbClr val="800000"/>
                </a:solidFill>
                <a:latin typeface="Arial Rounded MT Bold"/>
              </a:rPr>
              <a:t>East</a:t>
            </a:r>
            <a:r>
              <a:rPr b="0" lang="en-US" sz="2400" spc="-1" strike="noStrike">
                <a:solidFill>
                  <a:srgbClr val="8d873e"/>
                </a:solidFill>
                <a:latin typeface="Arial Rounded MT Bold"/>
              </a:rPr>
              <a:t> and set in the </a:t>
            </a:r>
            <a:r>
              <a:rPr b="1" lang="en-US" sz="2400" spc="-1" strike="noStrike">
                <a:solidFill>
                  <a:srgbClr val="800000"/>
                </a:solidFill>
                <a:latin typeface="Arial Rounded MT Bold"/>
              </a:rPr>
              <a:t>West</a:t>
            </a:r>
            <a:r>
              <a:rPr b="1" lang="en-US" sz="2400" spc="-1" strike="noStrike">
                <a:solidFill>
                  <a:srgbClr val="8d873e"/>
                </a:solidFill>
                <a:latin typeface="Arial Rounded MT Bold"/>
              </a:rPr>
              <a:t>. 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d873e"/>
                </a:solidFill>
                <a:latin typeface="Arial Rounded MT Bold"/>
              </a:rPr>
              <a:t>What else moves East to West?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d873e"/>
                </a:solidFill>
                <a:latin typeface="Arial Rounded MT Bold"/>
              </a:rPr>
              <a:t>Stars turn around the South Celestial Pole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2" name="Picture 11" descr="star_trails_south"/>
          <p:cNvPicPr/>
          <p:nvPr/>
        </p:nvPicPr>
        <p:blipFill>
          <a:blip r:embed="rId1"/>
          <a:stretch/>
        </p:blipFill>
        <p:spPr>
          <a:xfrm>
            <a:off x="5391000" y="1341360"/>
            <a:ext cx="3003840" cy="4525920"/>
          </a:xfrm>
          <a:prstGeom prst="rect">
            <a:avLst/>
          </a:prstGeom>
          <a:ln w="9360">
            <a:solidFill>
              <a:srgbClr val="2f2b20"/>
            </a:solidFill>
            <a:miter/>
          </a:ln>
        </p:spPr>
      </p:pic>
      <p:sp>
        <p:nvSpPr>
          <p:cNvPr id="633" name="Rectangle 1"/>
          <p:cNvSpPr/>
          <p:nvPr/>
        </p:nvSpPr>
        <p:spPr>
          <a:xfrm>
            <a:off x="5334120" y="1295280"/>
            <a:ext cx="3124080" cy="4648320"/>
          </a:xfrm>
          <a:prstGeom prst="rect">
            <a:avLst/>
          </a:prstGeom>
          <a:noFill/>
          <a:ln w="255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04:13:43Z</dcterms:created>
  <dc:creator>Dawn Muir</dc:creator>
  <dc:description/>
  <dc:language>en-US</dc:language>
  <cp:lastModifiedBy>Charlotte Rosier</cp:lastModifiedBy>
  <dcterms:modified xsi:type="dcterms:W3CDTF">2015-06-16T03:58:03Z</dcterms:modified>
  <cp:revision>68</cp:revision>
  <dc:subject/>
  <dc:title>Mau Mai Haere Mai Welcome to Carter Observatory</dc:title>
</cp:coreProperties>
</file>