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DAA75-3982-4448-BBF8-B77B8E4A0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2582E6-82F5-49DD-B82A-5BF533FC54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F94462-28BF-4D93-9773-18EFE05E0A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349464-CA70-4CEB-BAE9-17017BC5DA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46A8EE-BD1E-417B-97E5-C070FC2D0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9516C-15D3-41A4-907B-E2D17E8AC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21EC38-BA2E-4A21-8C0A-52FDC8B25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1F42F7-0202-4AE6-AF93-763F774F77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09A6-31B4-4E44-B65F-06C28090A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5AE1-7851-4B7A-B2CB-0A11C34B1CD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50FD-D4A0-4822-BA46-286051D532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DA7AC-88DC-4EBD-B8C7-53EB2C16DA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DAE0-EA0A-4759-BAC4-788BEEB364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501F3-BF33-477A-AC6C-2EE619552F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5608E-54BE-4504-9015-2A71A82FD1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5D8A-AF6E-476B-A9CA-3A0A29845B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75A6-E7D6-4AF8-8A4A-AFFB43EC5A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585D-1595-4270-BB2C-6ED3D197C0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C897-EB4D-4610-8236-2073615B8E8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5240F-C997-462B-BF71-A8EC9CD1A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DBDE-62B0-4B7E-8433-49F4622779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2CC7D-676D-4D66-A6CE-E9527C5150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F2999-DEC1-4714-8FFC-0EE7FF8D67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2CC69-974D-4123-B9A4-478AC8995C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C0CFB-F153-4003-832B-FFDADC5A1C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DAB40-90EB-45CB-AE73-F988768357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32ECEE-F81A-432E-9FFE-BEC5DE258F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4EFFD-7F38-4063-9F41-005CBA2E2B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C0AC7-1BE7-4E19-B082-42DED829F9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ADF19-E735-4413-93BF-6CB82ECF51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AB5A6-373A-41C2-B84E-88AC4BFBE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EBDC-BD01-4774-BE13-C23C75F13F2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FFBC0F-7B18-4EFF-A76A-502BF62C05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AEA25-1631-4392-A507-E446C07A04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4F41C-F2B1-4715-AD82-F7CEFEA823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64D2B-7C03-473D-907F-2CEED72515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98A68-D781-45FB-BB40-9A51BB479F4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DF149-4799-47A3-8292-F3B21F82ED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480C1-7E3C-48C8-ACA9-F2AA937A267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BC539-3AE6-4E5E-B8E2-D414CDD085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F56C2-9E2F-4B85-B1C0-967D57E379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4B709-6EB5-422C-B536-97EA8934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BE10-76A8-4A94-AEDC-C534F1C2B4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458E9-E2D8-4841-A706-4DDF09A2AE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2428F-4632-4239-B4C3-85B1CE219A2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96C22F-1D7F-48EF-864B-BE26EEFBB6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DEB0-37FD-4C9F-989F-8E306350AE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F85A-5D3E-46DE-9B0B-D25838D49EE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6B90-6751-4B71-97E0-0F5DB80A197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5E56-C839-4B30-A0EF-86B96AB2DA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2D89-40C9-4D8F-BB58-383C0162A56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69F67-B94C-46F8-8CF3-316B647DAD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D481-CBAE-4126-9C65-8773BC47C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84AF-2A13-45C9-8E02-E3511E650FD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4531-873E-411D-9E0F-66F6C4CD2F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01DF-0DFD-4E92-979E-6F1D2A8F1E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7DC9-3C39-4103-9E0E-CE417CC314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49B9C-851C-4A0F-BE67-D57BF87A7F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DD4B-F41A-4B00-B2EA-0D38C73015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22F58-1636-4533-9CFC-74BE6DD5ED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F2F994-C6DE-4281-B3BE-A15C04A7E9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CF31C-D058-4FF3-B04C-854B8A2E23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E0749-5903-4EA7-A6AD-40A19F15987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52CE80-82F5-45A1-A07A-688232BF5B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66C2-EC4A-449C-9E52-E059FBE25F4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BD6E82-1636-4E5A-8FC0-2765AF600F5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F20DC5-FA1F-4F8A-AEAC-50EAC0D776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3F1E8-5EF9-48D4-96E8-60DB0EB63E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31669-9F46-411A-BCC0-3817850854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445F2-2026-4687-BCFC-7FBCDC0864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81EEB6-3EE7-4495-BBFE-05074AEE41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592D7-620D-4D3A-8590-132E7FDE18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3033-4FC6-44A5-81C2-1A090E1AF0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2EFD-7B5E-44C6-A659-12EF0CDA24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8726-4589-4EC3-94C6-6CB035C3A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2A5B-8FA9-4430-89D2-F4F4C3874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5344-CACF-4CE0-BBFB-7B88AC6B2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7C18-985F-4D62-A120-52A8502C1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E80D-7A9C-4585-A1A8-1F4338A6B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CBC9-3F2D-45C9-AA10-EBF8E2F46A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D71E-5FCD-4240-927A-47D8C919D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7BAB-B105-46DC-AA42-0B4B97E633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A7E-E514-4154-9EE5-1325C174CD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7C0-5716-4412-A8CE-7FDD33A516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E97-3C0C-4333-BA59-B071DEF42E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E1A-F4D4-45E8-A627-8DE865E534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F5B-4AF0-42AC-AEDA-81C3E2931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5E5F-EBDB-4521-B4A5-EACA03150B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585-56A9-4CE4-90EA-EDC2B8802D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1B2-8017-41B8-8622-2FF527922F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C3F-9352-41CF-95F8-68ACD27BDA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169-16A9-4711-B414-6F97DCEF26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100-0B51-4263-BC59-D3F0F9AB97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73F-896A-4159-B3FD-7A05AAA293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DDB-E822-40C6-941F-79DCBF3CA6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EFDBD-6D36-4A21-B538-2FEA18357C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756E0-09B8-4565-8F48-2B67FA1B58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872E-AC7F-45E8-A5E7-EE5151E6C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80EB-D568-44FD-8683-CB2D0CB8EE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9728-FACD-42E5-974D-E4BC645798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6F269-9836-460C-A183-1D076246FC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69BC9-5453-4D48-A38E-DC41513CDB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285CB-EF5F-4E3A-8055-94A6F17777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22C7-088B-4C04-B7D1-5776F24778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57DDA-0FD3-4DA9-871F-EEBB65DFC7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A9A86-B07C-4BAE-A182-27D2DB2D33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3B49E-6F05-43E8-AEC8-84A817B40E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CD486-DC6E-43EE-A88E-2E90230A4C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C031D-6C2A-4538-B2DF-13342978F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CD1D-0FB2-46D8-A042-6E889DF380F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D1B36-30F9-4C28-B8FB-3401ECAE6E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D7F1C-5321-4647-8FCD-0FE8E03A06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06ADC-6C14-467B-8175-2A6FFAFDEC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C080-6F5E-4E24-9639-3170B010A5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A78BD-1962-4604-A775-4FE017FF10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4A511-1350-4F44-91A4-D2164E77CD4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CE8C-200C-4693-BCE3-EAE25C30B2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6DA38-6432-48CF-A158-391CFDD7A3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CACEF-7144-41E9-BBC9-8D6C52AA733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A609-505E-4646-A3C8-A0441C29F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A1C4-C70B-4A67-A191-01246F9B47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B576C-CED9-4C21-9B6C-04D36F80AA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2401-5DB3-4ECC-82ED-626DDDE83E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DC8E-492E-42AF-88D2-45637BFC36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5F0-2F60-4AD9-9D44-A372D896E45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C74C-51AB-4199-B545-C455C29930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FE1-4FA4-4B21-A321-2DD73F8EDC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64C3-34DD-4022-8218-3A7E8C53A9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433E-1762-4A7F-8FE7-8EA36780DB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339A-890B-46DB-B37D-B31EE65C9A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9742-049B-4E27-B54A-7F919BB1C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F407-DDA1-45E2-B19A-3C00A1088A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4D5D-70E2-48F7-854B-AD8ED7BD54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CBEA-33B3-409A-A2A3-97F6C1865B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1BBD-D874-4078-B93B-15C607FAD1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EDB507-77AD-475D-866D-C68A979E03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5369E-2A03-42F6-B067-C65F9BA9C2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63C42A-56A1-48FC-8FF9-4A195B2423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4C98D-59AA-4461-A9B1-D30697A6A0B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44301-3B33-4F6A-B581-A99FE0875D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0EC0C-D30C-4FE5-AA1A-BB84210CCA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75589-AD13-432D-8C70-1DF5C1E84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DDE7-CDE9-43FD-B430-04A8CE150C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93954-53DF-4934-9765-9E0FAF179C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34BF2-68AF-455D-8FBF-8C9C69EC58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B7115-F06B-4795-A563-C07CBB35ED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CC961-360E-428E-8FF6-6A131F07112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27D43-F55E-4675-A3B2-EFF1FE2BC8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5A16B-A996-4D5E-85F5-8E7CAC6B2A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8CBD7-2A04-4E7D-A072-7FF63AD595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7D428-2510-4B59-B1DC-5C2815095B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297D6-4499-4689-B22B-90103043E3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61021-C337-47C3-AE2B-B8714AB4F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969A-47F6-4107-A455-522441FEBE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134EA-A4C6-4BAE-B9D4-8193BC86EBC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D8CF5-3ECC-47AC-BA93-67972B7F20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CE6AA-5F84-4D89-A869-E61F7ED522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4D032-780F-4FFC-A559-0B941B09AF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45BFD-F79D-4AC2-8665-1F67C54418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34DA2-B08F-4DE2-BAC3-8DA8E45759F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5B189-6B02-4D77-AF24-BBFED35BAD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E4AD-947A-41C2-82A1-0DC109661C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BA39-13DC-4A4A-B900-D0706AF7E29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6017-9CE5-4FBA-91E3-F9D786F7F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106D80-992D-48C7-A580-1F9D1BA4DF1D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7569360" y="5334120"/>
            <a:ext cx="119376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217F95-6561-44B8-A199-F342873AFB73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0481C-440F-423F-A884-4B755AAC6F98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160736-B261-42F3-B350-86A17167510A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F534BE-0C61-4696-B8D8-550E26CC9247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61462D-84AA-49E3-8FEF-C70CCD94E19E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521CDF-0208-4BCC-96DF-03E95383F256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26474E-5C26-4724-970C-0A437DF0F4FB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D25665-7396-427E-9B36-C2000DF247D9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C3FF3D-A118-4657-BA82-F38AA876A582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C8095F-AA60-4334-B46D-57DAB5FD9D8F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A99291-54A3-495E-87BA-6113347CFFCF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13018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301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78741-DDEE-4B79-B893-C939F3D2EB3E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File:Tapestry_of_bayeux10.jpg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6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Exploring the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The Planets of our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" descr=""/>
          <p:cNvPicPr/>
          <p:nvPr/>
        </p:nvPicPr>
        <p:blipFill>
          <a:blip r:embed="rId1"/>
          <a:stretch/>
        </p:blipFill>
        <p:spPr>
          <a:xfrm>
            <a:off x="6154560" y="5419800"/>
            <a:ext cx="281016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400" spc="-1" strike="noStrike">
                <a:solidFill>
                  <a:srgbClr val="800000"/>
                </a:solidFill>
                <a:latin typeface="Arial Rounded MT Bold"/>
              </a:rPr>
              <a:t>Objects in our Solar System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grpSp>
        <p:nvGrpSpPr>
          <p:cNvPr id="524" name="Group 1"/>
          <p:cNvGrpSpPr/>
          <p:nvPr/>
        </p:nvGrpSpPr>
        <p:grpSpPr>
          <a:xfrm>
            <a:off x="152280" y="1989000"/>
            <a:ext cx="8812440" cy="2810160"/>
            <a:chOff x="152280" y="1989000"/>
            <a:chExt cx="8812440" cy="2810160"/>
          </a:xfrm>
        </p:grpSpPr>
        <p:sp>
          <p:nvSpPr>
            <p:cNvPr id="525" name="Rectangle 8"/>
            <p:cNvSpPr/>
            <p:nvPr/>
          </p:nvSpPr>
          <p:spPr>
            <a:xfrm>
              <a:off x="152280" y="1989000"/>
              <a:ext cx="8812440" cy="2810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6" name="Picture 5" descr=""/>
            <p:cNvPicPr/>
            <p:nvPr/>
          </p:nvPicPr>
          <p:blipFill>
            <a:blip r:embed="rId1"/>
            <a:stretch/>
          </p:blipFill>
          <p:spPr>
            <a:xfrm>
              <a:off x="3170880" y="2047680"/>
              <a:ext cx="2929680" cy="268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Picture 4" descr=""/>
            <p:cNvPicPr/>
            <p:nvPr/>
          </p:nvPicPr>
          <p:blipFill>
            <a:blip r:embed="rId2"/>
            <a:stretch/>
          </p:blipFill>
          <p:spPr>
            <a:xfrm>
              <a:off x="6293520" y="2189520"/>
              <a:ext cx="2467800" cy="24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7" descr="sun image"/>
            <p:cNvPicPr/>
            <p:nvPr/>
          </p:nvPicPr>
          <p:blipFill>
            <a:blip r:embed="rId3"/>
            <a:stretch/>
          </p:blipFill>
          <p:spPr>
            <a:xfrm>
              <a:off x="152280" y="1989000"/>
              <a:ext cx="3018600" cy="281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TextBox 2"/>
          <p:cNvSpPr/>
          <p:nvPr/>
        </p:nvSpPr>
        <p:spPr>
          <a:xfrm>
            <a:off x="668160" y="5084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How do scientists work out which object is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,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lane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mo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457200" y="2746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Rounded MT Bold"/>
              </a:rPr>
              <a:t>Our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755640" y="4410000"/>
            <a:ext cx="7632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	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	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Our Solar System 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A star, 8 planets, at least 5 dwarf planet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NZ" sz="2800" spc="-1" strike="noStrike">
                <a:solidFill>
                  <a:srgbClr val="404040"/>
                </a:solidFill>
                <a:latin typeface="Arial Rounded MT Bold"/>
              </a:rPr>
              <a:t>hundreds</a:t>
            </a: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 of moons, comets and asteroi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7" descr="O:\Image Library\Space Images\planets\solarsys_scale.jpg"/>
          <p:cNvPicPr/>
          <p:nvPr/>
        </p:nvPicPr>
        <p:blipFill>
          <a:blip r:embed="rId1"/>
          <a:stretch/>
        </p:blipFill>
        <p:spPr>
          <a:xfrm>
            <a:off x="152280" y="1432080"/>
            <a:ext cx="88394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1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1"/>
          <p:cNvSpPr/>
          <p:nvPr/>
        </p:nvSpPr>
        <p:spPr>
          <a:xfrm>
            <a:off x="457200" y="115920"/>
            <a:ext cx="80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NZ" sz="4200" spc="-1" strike="noStrike">
                <a:solidFill>
                  <a:srgbClr val="800000"/>
                </a:solidFill>
                <a:latin typeface="Arial Rounded MT Bold"/>
              </a:rPr>
              <a:t>The Terrestrial ‘rocky’ plan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601560" y="4365720"/>
            <a:ext cx="79311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These planets are made up mainly of rock or metal. Rocky planets are generally smaller than Gas Giants and rotate slow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They are Mercury, Venus, Earth and M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Rounded MT Bold"/>
                <a:ea typeface="Microsoft YaHei"/>
              </a:rPr>
              <a:t>Should the Moon be in this lis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Group 3"/>
          <p:cNvGrpSpPr/>
          <p:nvPr/>
        </p:nvGrpSpPr>
        <p:grpSpPr>
          <a:xfrm>
            <a:off x="152280" y="1341360"/>
            <a:ext cx="8839080" cy="2879280"/>
            <a:chOff x="152280" y="1341360"/>
            <a:chExt cx="8839080" cy="2879280"/>
          </a:xfrm>
        </p:grpSpPr>
        <p:pic>
          <p:nvPicPr>
            <p:cNvPr id="538" name="Picture 4" descr=""/>
            <p:cNvPicPr/>
            <p:nvPr/>
          </p:nvPicPr>
          <p:blipFill>
            <a:blip r:embed="rId1"/>
            <a:stretch/>
          </p:blipFill>
          <p:spPr>
            <a:xfrm>
              <a:off x="152280" y="1341360"/>
              <a:ext cx="8839080" cy="28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Text Box 5"/>
            <p:cNvSpPr/>
            <p:nvPr/>
          </p:nvSpPr>
          <p:spPr>
            <a:xfrm>
              <a:off x="152280" y="1341360"/>
              <a:ext cx="8839080" cy="28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"/>
          <p:cNvGrpSpPr/>
          <p:nvPr/>
        </p:nvGrpSpPr>
        <p:grpSpPr>
          <a:xfrm>
            <a:off x="152280" y="152280"/>
            <a:ext cx="8839440" cy="6575400"/>
            <a:chOff x="152280" y="152280"/>
            <a:chExt cx="8839440" cy="6575400"/>
          </a:xfrm>
        </p:grpSpPr>
        <p:sp>
          <p:nvSpPr>
            <p:cNvPr id="541" name="Rectangle 10"/>
            <p:cNvSpPr/>
            <p:nvPr/>
          </p:nvSpPr>
          <p:spPr>
            <a:xfrm>
              <a:off x="152280" y="152280"/>
              <a:ext cx="8839440" cy="6575400"/>
            </a:xfrm>
            <a:prstGeom prst="rect">
              <a:avLst/>
            </a:prstGeom>
            <a:noFill/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2" name="Picture 8" descr="O:\Image Library\Space Images\planets\Solar System.jpg"/>
            <p:cNvPicPr/>
            <p:nvPr/>
          </p:nvPicPr>
          <p:blipFill>
            <a:blip r:embed="rId1"/>
            <a:srcRect l="9927" t="37895" r="0" b="6901"/>
            <a:stretch/>
          </p:blipFill>
          <p:spPr>
            <a:xfrm>
              <a:off x="4572000" y="2204640"/>
              <a:ext cx="4091760" cy="306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Rectangle 3"/>
            <p:cNvSpPr/>
            <p:nvPr/>
          </p:nvSpPr>
          <p:spPr>
            <a:xfrm>
              <a:off x="4461840" y="2132640"/>
              <a:ext cx="4286520" cy="324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The Gas &amp; Ice Gian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533520" y="1974960"/>
            <a:ext cx="403848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Jupiter, Saturn, Uranus and Neptune are formed mainly out of hydrogen and helium and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spin quickly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 They all have rings although Saturn’s are the most obvio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2673360" y="1270080"/>
            <a:ext cx="37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2800" spc="-1" strike="noStrike">
                <a:solidFill>
                  <a:srgbClr val="404040"/>
                </a:solidFill>
                <a:latin typeface="Arial Rounded MT Bold"/>
              </a:rPr>
              <a:t>Gas giants are hug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4711680" y="5549760"/>
            <a:ext cx="39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Could the Earth have rings like Satur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13"/>
          <p:cNvGrpSpPr/>
          <p:nvPr/>
        </p:nvGrpSpPr>
        <p:grpSpPr>
          <a:xfrm>
            <a:off x="457200" y="4869000"/>
            <a:ext cx="3683160" cy="1228680"/>
            <a:chOff x="457200" y="4869000"/>
            <a:chExt cx="3683160" cy="1228680"/>
          </a:xfrm>
        </p:grpSpPr>
        <p:sp>
          <p:nvSpPr>
            <p:cNvPr id="549" name="Rounded Rectangle 5"/>
            <p:cNvSpPr/>
            <p:nvPr/>
          </p:nvSpPr>
          <p:spPr>
            <a:xfrm>
              <a:off x="457200" y="4873680"/>
              <a:ext cx="3683160" cy="12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11"/>
            <p:cNvSpPr/>
            <p:nvPr/>
          </p:nvSpPr>
          <p:spPr>
            <a:xfrm>
              <a:off x="495000" y="4869000"/>
              <a:ext cx="36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NZ" sz="2400" spc="-1" strike="noStrike">
                  <a:solidFill>
                    <a:srgbClr val="404040"/>
                  </a:solidFill>
                  <a:latin typeface="Arial Rounded MT Bold"/>
                </a:rPr>
                <a:t>Why are Uranus and Neptune called the </a:t>
              </a:r>
              <a:r>
                <a:rPr b="1" lang="en-NZ" sz="2400" spc="-1" strike="noStrike">
                  <a:solidFill>
                    <a:srgbClr val="404040"/>
                  </a:solidFill>
                  <a:latin typeface="Arial Rounded MT Bold"/>
                </a:rPr>
                <a:t>ice planets</a:t>
              </a:r>
              <a:r>
                <a:rPr b="0" lang="en-NZ" sz="2400" spc="-1" strike="noStrike">
                  <a:solidFill>
                    <a:srgbClr val="404040"/>
                  </a:solidFill>
                  <a:latin typeface="Arial Rounded MT Bold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2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Dwarf planets and aster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324000" y="1413000"/>
            <a:ext cx="475272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Dwarf planets are objects that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orbit a star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 and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are spherical 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but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 NOT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cleared its orbit of other objects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 Pluto and Ceres are now classified as a dwarf plane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2"/>
          <p:cNvSpPr/>
          <p:nvPr/>
        </p:nvSpPr>
        <p:spPr>
          <a:xfrm>
            <a:off x="3549600" y="4005360"/>
            <a:ext cx="52704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Asteroids are found throughout the Solar System but most are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between Mars and Jupiter in the Asteroid Bel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They are chunks of rock, that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orbit a star</a:t>
            </a: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, but </a:t>
            </a:r>
            <a:r>
              <a:rPr b="1" lang="en-NZ" sz="1800" spc="-1" strike="noStrike">
                <a:solidFill>
                  <a:srgbClr val="404040"/>
                </a:solidFill>
                <a:latin typeface="Arial Rounded MT Bold"/>
              </a:rPr>
              <a:t>are not spherical</a:t>
            </a:r>
            <a:r>
              <a:rPr b="0" lang="en-NZ" sz="1800" spc="-1" strike="noStrike">
                <a:solidFill>
                  <a:srgbClr val="404040"/>
                </a:solidFill>
                <a:latin typeface="Arial Rounded MT Bold"/>
              </a:rPr>
              <a:t>. They are made up of the ‘left over’ bits when the Terrestrial planets were being formed. Many asteroids also have moo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4"/>
          <p:cNvGrpSpPr/>
          <p:nvPr/>
        </p:nvGrpSpPr>
        <p:grpSpPr>
          <a:xfrm>
            <a:off x="5076720" y="1268280"/>
            <a:ext cx="3610080" cy="2632320"/>
            <a:chOff x="5076720" y="1268280"/>
            <a:chExt cx="3610080" cy="2632320"/>
          </a:xfrm>
        </p:grpSpPr>
        <p:pic>
          <p:nvPicPr>
            <p:cNvPr id="556" name="Picture 6" descr=""/>
            <p:cNvPicPr/>
            <p:nvPr/>
          </p:nvPicPr>
          <p:blipFill>
            <a:blip r:embed="rId1"/>
            <a:stretch/>
          </p:blipFill>
          <p:spPr>
            <a:xfrm>
              <a:off x="5148720" y="1305000"/>
              <a:ext cx="345600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Rectangle 3"/>
            <p:cNvSpPr/>
            <p:nvPr/>
          </p:nvSpPr>
          <p:spPr>
            <a:xfrm>
              <a:off x="5076720" y="1268280"/>
              <a:ext cx="3610080" cy="263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66560" y="4005360"/>
            <a:ext cx="3322800" cy="23032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"/>
          <p:cNvSpPr/>
          <p:nvPr/>
        </p:nvSpPr>
        <p:spPr>
          <a:xfrm>
            <a:off x="395280" y="3933720"/>
            <a:ext cx="3467160" cy="240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6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NZ" sz="4400" spc="-1" strike="noStrike">
                <a:solidFill>
                  <a:srgbClr val="800000"/>
                </a:solidFill>
                <a:latin typeface="Arial Rounded MT Bold"/>
              </a:rPr>
              <a:t>Comets</a:t>
            </a:r>
            <a:endParaRPr b="0" lang="en-US" sz="4400" spc="-1" strike="noStrike">
              <a:solidFill>
                <a:srgbClr val="130181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50560" y="1320840"/>
            <a:ext cx="45370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Comets are icy bodies that are usually frozen and orbit far from the Sun.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If they fall in towards the Sun they </a:t>
            </a:r>
            <a:r>
              <a:rPr b="1" lang="en-NZ" sz="2400" spc="-1" strike="noStrike">
                <a:solidFill>
                  <a:srgbClr val="404040"/>
                </a:solidFill>
                <a:latin typeface="Arial Rounded MT Bold"/>
              </a:rPr>
              <a:t>melt</a:t>
            </a: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404040"/>
                </a:solidFill>
                <a:latin typeface="Arial Rounded MT Bold"/>
              </a:rPr>
              <a:t>As they melt they form large “tails” of dust and gas. </a:t>
            </a:r>
            <a:endParaRPr b="0" lang="en-US" sz="2400" spc="-1" strike="noStrike">
              <a:solidFill>
                <a:srgbClr val="130181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rcRect l="0" t="0" r="6855" b="0"/>
          <a:stretch/>
        </p:blipFill>
        <p:spPr>
          <a:xfrm>
            <a:off x="4932360" y="1413000"/>
            <a:ext cx="3838680" cy="2828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White embroidery showing several people on the left pointing to Halley, top right, over a to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410000"/>
            <a:ext cx="2101680" cy="21877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2"/>
          <p:cNvSpPr/>
          <p:nvPr/>
        </p:nvSpPr>
        <p:spPr>
          <a:xfrm>
            <a:off x="2556000" y="4149720"/>
            <a:ext cx="244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Rounded MT Bold"/>
              </a:rPr>
              <a:t>Halley’s Comet is very famous. It was seen as a sign of doom in the Middle Ages and appears as a warning to King Harold. It can be seen on the Bayeux tapestr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4"/>
          <p:cNvGrpSpPr/>
          <p:nvPr/>
        </p:nvGrpSpPr>
        <p:grpSpPr>
          <a:xfrm>
            <a:off x="5124600" y="4653000"/>
            <a:ext cx="3768480" cy="1648800"/>
            <a:chOff x="5124600" y="4653000"/>
            <a:chExt cx="3768480" cy="1648800"/>
          </a:xfrm>
        </p:grpSpPr>
        <p:sp>
          <p:nvSpPr>
            <p:cNvPr id="567" name="Rectangle 1"/>
            <p:cNvSpPr/>
            <p:nvPr/>
          </p:nvSpPr>
          <p:spPr>
            <a:xfrm>
              <a:off x="5148360" y="4744800"/>
              <a:ext cx="362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1" lang="en-NZ" sz="2400" spc="-1" strike="noStrike">
                  <a:solidFill>
                    <a:srgbClr val="800000"/>
                  </a:solidFill>
                  <a:latin typeface="Arial Rounded MT Bold"/>
                </a:rPr>
                <a:t>       </a:t>
              </a:r>
              <a:r>
                <a:rPr b="1" lang="en-NZ" sz="2400" spc="-1" strike="noStrike">
                  <a:solidFill>
                    <a:srgbClr val="404040"/>
                  </a:solidFill>
                  <a:latin typeface="Arial Rounded MT Bold"/>
                </a:rPr>
                <a:t>All comet tails point away from the Sun just like your shadow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ounded Rectangle 3"/>
            <p:cNvSpPr/>
            <p:nvPr/>
          </p:nvSpPr>
          <p:spPr>
            <a:xfrm>
              <a:off x="5124600" y="4653000"/>
              <a:ext cx="3768480" cy="1352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9" name="Picture 7" descr="C:\Users\Becky.Bateman\AppData\Local\Microsoft\Windows\Temporary Internet Files\Content.IE5\96FGOXJS\MC900384174[2].wmf"/>
          <p:cNvPicPr/>
          <p:nvPr/>
        </p:nvPicPr>
        <p:blipFill>
          <a:blip r:embed="rId4"/>
          <a:stretch/>
        </p:blipFill>
        <p:spPr>
          <a:xfrm>
            <a:off x="5219640" y="4653000"/>
            <a:ext cx="504720" cy="5443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5"/>
          <p:cNvSpPr/>
          <p:nvPr/>
        </p:nvSpPr>
        <p:spPr>
          <a:xfrm>
            <a:off x="4859280" y="1341360"/>
            <a:ext cx="3960720" cy="29512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24000" y="4365720"/>
            <a:ext cx="2232000" cy="23079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4:13:43Z</dcterms:created>
  <dc:creator>Dawn Muir</dc:creator>
  <dc:description/>
  <dc:language>en-US</dc:language>
  <cp:lastModifiedBy>Charlotte Rosier</cp:lastModifiedBy>
  <dcterms:modified xsi:type="dcterms:W3CDTF">2015-06-16T04:06:12Z</dcterms:modified>
  <cp:revision>57</cp:revision>
  <dc:subject/>
  <dc:title>Mau Mai Haere Mai Welcome to Carter Observatory</dc:title>
</cp:coreProperties>
</file>