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wmf" ContentType="image/x-wmf"/>
  <Override PartName="/ppt/media/image5.jpeg" ContentType="image/jpeg"/>
  <Override PartName="/ppt/media/image10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3018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653E4E-26F7-4CA8-B990-DB870EF45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EC6510-DDB3-4BCB-AB8F-98631F583C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88BAD1-A950-4A02-A4CF-2A276818A4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746ECE-74AD-4D83-BF3E-7AFA6AC33C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D31685-6E12-4C78-A490-67D48ED84C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40AE1F-7E01-446E-A71C-2732D6D2A4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374E04-A52C-4E69-9349-AF7D3D2F11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9CFD93-A09C-4891-9AE2-CEE0AC50B8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F1F60-5EA9-4BDA-AF0F-96D5F290C4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384A6-1790-4886-BA94-9CDDC6B1246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39A65-D975-4963-B29A-1D2EA663D11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3A7F2-BE95-4612-A4FC-642491DF3D9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7E575-85CA-4604-B386-A6BC6C7CC91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6331A-767B-4DDF-BE44-6F94EE2A62F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3DE21-1CA7-4775-8FF7-344E8CE20EB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53BB2-71DC-4B18-AAEF-FDB90079937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AAD61-0427-483B-9B72-0E67FF2AD6E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7927A-7583-4CCF-BD42-C78AC86B475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9F87C-77A8-4981-99D8-89A19742F7C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B7EE7C-C191-4E01-953D-6A5B038BD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699B7-9645-47F5-870D-C311EC43F8C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05B4CB-C014-4946-9415-5BA62116991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8CF430-45A1-45C3-8CD9-62083736167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B9305C-F6A1-42DD-B306-F16DDA5830E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6700CB-DAAE-41EF-9169-8041904060A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38D7A8-96AD-44AB-BAFE-2D4A7CF14D7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233A98-4674-4F2A-BB19-15A0E64EEB9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021107-2A00-49D7-A043-4F2D2845A7D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0CA6B8-E967-4E47-A0F3-C96713FDB41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E63B6D-752B-47CD-BEC6-6CA0F95D35C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3FC8E1-F88C-41D1-A2DB-C3F5E22870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4D714-8860-4F63-9999-3F5FDFFEFA1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FA2DB8-1B02-465D-B75D-36965FDAC7D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5ADF7C-B848-4B63-945B-2567B35B69B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259CE6-0356-41B0-90B6-806871CF28C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0367A9-D7E9-43A9-B252-601419D4551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C94980-F769-4787-8B2B-4FD2FB8311C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BF5D1D-8115-473A-9A78-A2816AD6335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CF7032-BA69-48AF-813B-8FC8BC9E818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EEBBC6-1782-47C6-9C40-872125C8614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848112-6E59-41DA-B9CE-98F3ABE0029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17A43E-0D9B-4D2C-B750-E3E1A9A708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AA691-F4BD-48CC-8459-2F3F57F2C5E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623901-15C9-49CA-A979-C126AEA02CB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C20050-4C5A-47CE-A838-942EC61D044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76E3DF-2B3E-4926-A3DC-454AB151FB6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0F0B6-7461-4BC8-BFC7-9DBC867A914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9E209-6DC3-4187-9180-B28BF5108EB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E2D91-868F-4ABF-BF72-61DEB29FB4E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F4537-A269-4798-B5E1-DBFB837B9E0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6EC62-6EDA-4596-9A8C-FA8A292ABD6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EB12F-8173-4F25-9B17-AFF3D1896DB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64CAD-96BE-45A2-900D-47136185C5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9033A-B109-458B-A9E8-0D5732FDF96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67B16-2238-43BF-A92E-7765BF7A938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AD209-B35C-4260-A747-A56799871D4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8CE37-C1A8-4BF8-B893-FE675B5FC6F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AE9A3-F2AB-4155-9FD0-6E487E869C9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5DBA6-3939-4738-B7AA-2DCE15CFC28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B5CA8D-0A56-4167-9F98-9928523B4D7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236865-CD8A-4C82-BDA9-C0672B0728D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BE3CFE-D537-4AA4-912A-4C0A68656D5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1706AF-1B53-48DE-A077-5901ABDC4A8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C9AA1F-5611-4CFB-9332-75295137FC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00F72-8AA1-4B54-8373-0E5E90BF799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17FD11-77E0-4998-A896-8DA2AA282AE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AB85E5-5C81-4B95-9A73-CD7BE7C3C51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8D84D5-E38E-44C2-91A8-20A170A7A53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3475F9-E68E-4D2F-B8A0-88144650950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B67FA3-B285-47B3-877F-10E098E7122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575742-3D58-43DA-809E-3F6A5FBA39A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206253-4471-489B-975D-8776D557BF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5EE9E-0BAC-4F2D-B8D7-578E1D8B4F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2C6B3-8811-481A-AD9E-897290FE8F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E286C-F29C-44DB-B849-5FCB6C6DE2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3AA6F-1AC6-4334-B229-620D9A3EB3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B1794-3E90-4E9E-948A-A0DEA15245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C8B24-4A96-4D4C-B2D8-D3F5A43AD4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3894D-96EA-4AB1-AF10-37563A3655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B624B-5436-4575-ADE5-02E7E72AD9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C2B46-CCFD-43C2-8567-803DBDD358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DA9FF-99EF-4034-A15C-D498ECF0F49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26AE-450F-4CAB-8574-B779B496DD9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86F5-35D3-4F5C-A820-89922AD0FD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E770-3CAD-4D7A-B922-A5900527DBD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EBE4-1890-46A2-BA66-5AB5CBA686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F79A-284F-4331-B464-C2F21CE540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6A2B2-5D75-4B6F-AEB8-0B65D9B80B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0027-37D4-43B1-A9ED-A206051261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166F-14D0-49B0-A860-CCBFD1C1AE6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DFA7-C85C-4320-AACE-C47A8408F6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B3A6-4125-443B-B09F-3743AC2EA9B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F2B3-2B4A-4FB8-A2C5-B691DAE32A3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96AE-C9AC-48AF-B687-9DD2743BB68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E2E7-4453-4E42-948C-8471F9F2A16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984C3-A413-49ED-933A-3E0BA8C96DB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4CBF0-451E-4804-AF08-FC4FF5CD76E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C6335-570C-4F2A-9594-7CB20B8ED1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6FCF9-7F20-412D-A866-55BB32A033D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096C0-E7CC-4DA2-962C-D3F740B497F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39BEA-078F-4AAA-94AE-AD881EF5698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999383-FEE5-42CA-8124-0130D2E1B7E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8203A-7E4B-4056-BB95-7FAD5DE9D50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F69FA-8A93-4DE9-B7CE-315A042EE84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B676A-182C-47E7-B8B4-AE3824FF796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31D50-07F4-4D29-BDBB-302AB511C6F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805E9-6D50-4653-AF75-80673D0D64E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1252C-CF18-4DE0-9133-3EA8766F584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60AFB-3E96-47B3-B237-047AEF6931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265EA-94EF-447D-94BD-AA940575BC1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12F55-EBF7-4FE1-9F19-0F2DB894224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B43ED-7155-4752-9B7E-13D3B3E2D1E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32E32-836A-499D-B319-F34533EE198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CB4A2-5C28-4A05-B852-11F07FF16EF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2A2CB-7247-4BC7-906A-BBCF59B7631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D3EDA-0AF6-40A8-ADAC-8464E466D10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CA483-2476-43C2-BC05-14061EB8A66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76E1A-9FBC-40DD-8694-CBC425E5AB7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95A22-42C2-4980-9D69-A698C6CA5B5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81C8D-F7A8-4F66-9F41-17CE7754D7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837FE-89C2-4664-ABF1-0BE1494557A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45717-6E06-4D9E-AA94-AD67249D9E4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DB95-1678-4CBF-AA2F-4D89E535E09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E233-732D-459F-89CC-AB433F5A947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0051-87B6-4987-832D-51CB8179407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1D0B-45E3-4E3C-A537-36C30297173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FBAB-45DB-490D-849D-0857000FABD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5ABD-1E4B-4A33-96A8-F52D760FEA9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117D-71AC-44CF-B147-90716E494E4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CD3C-5223-4D07-9EC1-6CB1A44BA86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83DA-2F24-4426-BE9A-11B90BF75C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E713A-B113-4E01-8AD5-5C96541385F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572E-6270-4E38-8AFE-CFCAB8BF502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6991-B0DB-4562-85DB-26F0F25C7FD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EED4-28DD-4E1E-B061-798727E1BF3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AF855F-AA73-4841-A395-7469FC582CF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030430-AE78-4617-95E6-7F1AFD85E0F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7C03BE-D1E0-4BA0-96E3-0CC1AAA9FBB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A4E9A9-91C5-4B92-83CB-041191B6861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FDAD14-820D-44EA-A89A-1BB9790B3E5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D23C7A-DDC1-4714-8FEE-1FBED57884F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CAEE33-B4E0-4313-A3EF-E7BB1BCB6A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31409-1197-4353-88AA-A3EF666F19C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7FB91E-EE52-4480-9557-9A05D70F419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3D0D00-18F3-4D2F-B62B-83F5144FA74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ECF678-5AA6-4926-8486-E453980EECE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B397A1-F419-4F23-BDCC-A106455442E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50E441-EB8C-481F-A0FB-8AE08865CE0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A770BC-364F-487C-B238-E7A0A174BC8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E6F01B-4B2D-4387-A05C-4BA54B3F72E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788E41-A993-429C-ADB1-8A8B9A2D802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743254-C57A-4C95-9411-7DDE41D207B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82BE54-28F1-4E36-87F2-26280F20C1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F4C79-F056-483D-9C3D-72BBFEC189C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55E9A2-6F79-4C22-9DE5-F93333C80E7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ECDEB4-9348-40E7-8DA5-E29BB737983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A0C900-2300-4168-BA57-F6236EF5E92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6B8349-DAA4-4F6F-806F-5193DB63366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25FD4A-A254-4D04-A357-7EC35828A8F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0BC9D1-27DE-4E8C-A318-AB7AE6C189E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3A2948-3FC7-4AA1-AA57-AE4891A8CF1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DEAEA-7D56-49DA-9D4F-54189AADECD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1578A-38A5-4AD8-8B2E-A90761B5E87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2FA52-2544-4D61-BB7C-4D2BF3725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909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3018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N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046E62-1AFF-47D3-B940-92A923516ABB}" type="slidenum"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7569360" y="5334120"/>
            <a:ext cx="1193760" cy="1447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3018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N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87FD27-78AF-4F1A-A5A3-6BFFD6FEF70C}" type="slidenum"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3018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N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8743BA-3F1F-477F-BEE5-F583EA7B2844}" type="slidenum"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3018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N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030D1E-F425-4F81-997B-C53712DDB77F}" type="slidenum"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3018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N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1F2660-9313-4144-B62F-5D05B014F16D}" type="slidenum"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3018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N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6696E9-BDAC-4FAA-A067-41A55E36BD45}" type="slidenum"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3018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N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FD2154-0D88-4BDD-91DE-676851F02CB3}" type="slidenum"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3018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N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9B3EA6-8D3B-4CF2-BB29-7E77E67E0A90}" type="slidenum"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3018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N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910785-B379-4A54-B764-39B935B15064}" type="slidenum"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3018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N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7E8ADA-B5A7-4B83-B549-C57EEE9BD00F}" type="slidenum"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3018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N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E0A4DA-9703-4523-A473-EAC7170B1033}" type="slidenum"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3018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Num" idx="8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N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8AECCE-EF23-4073-B8A2-12B628FC0417}" type="slidenum"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3018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N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CA1498-4DFF-424D-BD83-D430A3912640}" type="slidenum"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en.wikipedia.org/wiki/File:Tapestry_of_bayeux10.jpg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6"/>
          <p:cNvSpPr/>
          <p:nvPr/>
        </p:nvSpPr>
        <p:spPr>
          <a:xfrm>
            <a:off x="152280" y="152280"/>
            <a:ext cx="8839440" cy="657540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NZ" sz="4400" spc="-1" strike="noStrike">
                <a:solidFill>
                  <a:srgbClr val="800000"/>
                </a:solidFill>
                <a:latin typeface="Arial Rounded MT Bold"/>
              </a:rPr>
              <a:t>Exploring the Sola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NZ" sz="4400" spc="-1" strike="noStrike">
                <a:solidFill>
                  <a:srgbClr val="800000"/>
                </a:solidFill>
                <a:latin typeface="Arial Rounded MT Bold"/>
              </a:rPr>
              <a:t>The Planets of our Sola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Picture 1" descr=""/>
          <p:cNvPicPr/>
          <p:nvPr/>
        </p:nvPicPr>
        <p:blipFill>
          <a:blip r:embed="rId1"/>
          <a:stretch/>
        </p:blipFill>
        <p:spPr>
          <a:xfrm>
            <a:off x="6154560" y="5419800"/>
            <a:ext cx="2810160" cy="127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10"/>
          <p:cNvSpPr/>
          <p:nvPr/>
        </p:nvSpPr>
        <p:spPr>
          <a:xfrm>
            <a:off x="152280" y="152280"/>
            <a:ext cx="8839440" cy="657540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NZ" sz="4400" spc="-1" strike="noStrike">
                <a:solidFill>
                  <a:srgbClr val="800000"/>
                </a:solidFill>
                <a:latin typeface="Arial Rounded MT Bold"/>
              </a:rPr>
              <a:t>Objects in our Solar System</a:t>
            </a: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grpSp>
        <p:nvGrpSpPr>
          <p:cNvPr id="524" name="Group 1"/>
          <p:cNvGrpSpPr/>
          <p:nvPr/>
        </p:nvGrpSpPr>
        <p:grpSpPr>
          <a:xfrm>
            <a:off x="152280" y="1989000"/>
            <a:ext cx="8812440" cy="2810160"/>
            <a:chOff x="152280" y="1989000"/>
            <a:chExt cx="8812440" cy="2810160"/>
          </a:xfrm>
        </p:grpSpPr>
        <p:sp>
          <p:nvSpPr>
            <p:cNvPr id="525" name="Rectangle 8"/>
            <p:cNvSpPr/>
            <p:nvPr/>
          </p:nvSpPr>
          <p:spPr>
            <a:xfrm>
              <a:off x="152280" y="1989000"/>
              <a:ext cx="8812440" cy="28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6" name="Picture 5" descr=""/>
            <p:cNvPicPr/>
            <p:nvPr/>
          </p:nvPicPr>
          <p:blipFill>
            <a:blip r:embed="rId1"/>
            <a:stretch/>
          </p:blipFill>
          <p:spPr>
            <a:xfrm>
              <a:off x="3170880" y="2047680"/>
              <a:ext cx="2929680" cy="268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Picture 4" descr=""/>
            <p:cNvPicPr/>
            <p:nvPr/>
          </p:nvPicPr>
          <p:blipFill>
            <a:blip r:embed="rId2"/>
            <a:stretch/>
          </p:blipFill>
          <p:spPr>
            <a:xfrm>
              <a:off x="6293520" y="2189520"/>
              <a:ext cx="2467800" cy="24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Picture 7" descr="sun image"/>
            <p:cNvPicPr/>
            <p:nvPr/>
          </p:nvPicPr>
          <p:blipFill>
            <a:blip r:embed="rId3"/>
            <a:stretch/>
          </p:blipFill>
          <p:spPr>
            <a:xfrm>
              <a:off x="152280" y="1989000"/>
              <a:ext cx="3018600" cy="281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9" name="TextBox 2"/>
          <p:cNvSpPr/>
          <p:nvPr/>
        </p:nvSpPr>
        <p:spPr>
          <a:xfrm>
            <a:off x="668160" y="508464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How do scientists work out which object is a 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star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, a 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planet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or a 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moon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10"/>
          <p:cNvSpPr/>
          <p:nvPr/>
        </p:nvSpPr>
        <p:spPr>
          <a:xfrm>
            <a:off x="152280" y="152280"/>
            <a:ext cx="8839440" cy="657540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1"/>
          <p:cNvSpPr/>
          <p:nvPr/>
        </p:nvSpPr>
        <p:spPr>
          <a:xfrm>
            <a:off x="457200" y="274680"/>
            <a:ext cx="77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 Rounded MT Bold"/>
              </a:rPr>
              <a:t>Our Sola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2"/>
          <p:cNvSpPr/>
          <p:nvPr/>
        </p:nvSpPr>
        <p:spPr>
          <a:xfrm>
            <a:off x="755640" y="4410000"/>
            <a:ext cx="763272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800" spc="-1" strike="noStrike">
                <a:solidFill>
                  <a:srgbClr val="404040"/>
                </a:solidFill>
                <a:latin typeface="Arial Rounded MT Bold"/>
              </a:rPr>
              <a:t>	</a:t>
            </a:r>
            <a:r>
              <a:rPr b="0" lang="en-NZ" sz="2800" spc="-1" strike="noStrike">
                <a:solidFill>
                  <a:srgbClr val="404040"/>
                </a:solidFill>
                <a:latin typeface="Arial Rounded MT Bold"/>
              </a:rPr>
              <a:t>	</a:t>
            </a:r>
            <a:r>
              <a:rPr b="0" lang="en-NZ" sz="2800" spc="-1" strike="noStrike">
                <a:solidFill>
                  <a:srgbClr val="404040"/>
                </a:solidFill>
                <a:latin typeface="Arial Rounded MT Bold"/>
              </a:rPr>
              <a:t>Our Solar System consists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800" spc="-1" strike="noStrike">
                <a:solidFill>
                  <a:srgbClr val="404040"/>
                </a:solidFill>
                <a:latin typeface="Arial Rounded MT Bold"/>
              </a:rPr>
              <a:t>A star, 8 planets, at least 5 dwarf planet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NZ" sz="2800" spc="-1" strike="noStrike">
                <a:solidFill>
                  <a:srgbClr val="404040"/>
                </a:solidFill>
                <a:latin typeface="Arial Rounded MT Bold"/>
              </a:rPr>
              <a:t>hundreds</a:t>
            </a:r>
            <a:r>
              <a:rPr b="0" lang="en-NZ" sz="2800" spc="-1" strike="noStrike">
                <a:solidFill>
                  <a:srgbClr val="404040"/>
                </a:solidFill>
                <a:latin typeface="Arial Rounded MT Bold"/>
              </a:rPr>
              <a:t> of moons, comets and asteroid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Picture 7" descr="O:\Image Library\Space Images\planets\solarsys_scale.jpg"/>
          <p:cNvPicPr/>
          <p:nvPr/>
        </p:nvPicPr>
        <p:blipFill>
          <a:blip r:embed="rId1"/>
          <a:stretch/>
        </p:blipFill>
        <p:spPr>
          <a:xfrm>
            <a:off x="152280" y="1432080"/>
            <a:ext cx="8839440" cy="26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11"/>
          <p:cNvSpPr/>
          <p:nvPr/>
        </p:nvSpPr>
        <p:spPr>
          <a:xfrm>
            <a:off x="152280" y="152280"/>
            <a:ext cx="8839440" cy="657540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"/>
          <p:cNvSpPr/>
          <p:nvPr/>
        </p:nvSpPr>
        <p:spPr>
          <a:xfrm>
            <a:off x="457200" y="115920"/>
            <a:ext cx="807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NZ" sz="4200" spc="-1" strike="noStrike">
                <a:solidFill>
                  <a:srgbClr val="800000"/>
                </a:solidFill>
                <a:latin typeface="Arial Rounded MT Bold"/>
              </a:rPr>
              <a:t>The Terrestrial ‘rocky’ plane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2"/>
          <p:cNvSpPr/>
          <p:nvPr/>
        </p:nvSpPr>
        <p:spPr>
          <a:xfrm>
            <a:off x="601560" y="4365720"/>
            <a:ext cx="7931160" cy="22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404040"/>
                </a:solidFill>
                <a:latin typeface="Arial Rounded MT Bold"/>
                <a:ea typeface="Microsoft YaHei"/>
              </a:rPr>
              <a:t>These planets are made up mainly of rock or metal. Rocky planets are generally smaller than Gas Giants and rotate slow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404040"/>
                </a:solidFill>
                <a:latin typeface="Arial Rounded MT Bold"/>
                <a:ea typeface="Microsoft YaHei"/>
              </a:rPr>
              <a:t>They are Mercury, Venus, Earth and M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Rounded MT Bold"/>
                <a:ea typeface="Microsoft YaHei"/>
              </a:rPr>
              <a:t>Should the Moon be in this lis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7" name="Group 3"/>
          <p:cNvGrpSpPr/>
          <p:nvPr/>
        </p:nvGrpSpPr>
        <p:grpSpPr>
          <a:xfrm>
            <a:off x="152280" y="1341360"/>
            <a:ext cx="8839080" cy="2879280"/>
            <a:chOff x="152280" y="1341360"/>
            <a:chExt cx="8839080" cy="2879280"/>
          </a:xfrm>
        </p:grpSpPr>
        <p:pic>
          <p:nvPicPr>
            <p:cNvPr id="538" name="Picture 4" descr=""/>
            <p:cNvPicPr/>
            <p:nvPr/>
          </p:nvPicPr>
          <p:blipFill>
            <a:blip r:embed="rId1"/>
            <a:stretch/>
          </p:blipFill>
          <p:spPr>
            <a:xfrm>
              <a:off x="152280" y="1341360"/>
              <a:ext cx="8839080" cy="28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Text Box 5"/>
            <p:cNvSpPr/>
            <p:nvPr/>
          </p:nvSpPr>
          <p:spPr>
            <a:xfrm>
              <a:off x="152280" y="1341360"/>
              <a:ext cx="8839080" cy="28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"/>
          <p:cNvGrpSpPr/>
          <p:nvPr/>
        </p:nvGrpSpPr>
        <p:grpSpPr>
          <a:xfrm>
            <a:off x="152280" y="152280"/>
            <a:ext cx="8839440" cy="6575400"/>
            <a:chOff x="152280" y="152280"/>
            <a:chExt cx="8839440" cy="6575400"/>
          </a:xfrm>
        </p:grpSpPr>
        <p:sp>
          <p:nvSpPr>
            <p:cNvPr id="541" name="Rectangle 10"/>
            <p:cNvSpPr/>
            <p:nvPr/>
          </p:nvSpPr>
          <p:spPr>
            <a:xfrm>
              <a:off x="152280" y="152280"/>
              <a:ext cx="8839440" cy="6575400"/>
            </a:xfrm>
            <a:prstGeom prst="rect">
              <a:avLst/>
            </a:prstGeom>
            <a:noFill/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42" name="Picture 8" descr="O:\Image Library\Space Images\planets\Solar System.jpg"/>
            <p:cNvPicPr/>
            <p:nvPr/>
          </p:nvPicPr>
          <p:blipFill>
            <a:blip r:embed="rId1"/>
            <a:srcRect l="9927" t="37895" r="0" b="6901"/>
            <a:stretch/>
          </p:blipFill>
          <p:spPr>
            <a:xfrm>
              <a:off x="4572000" y="2204640"/>
              <a:ext cx="4091760" cy="306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Rectangle 3"/>
            <p:cNvSpPr/>
            <p:nvPr/>
          </p:nvSpPr>
          <p:spPr>
            <a:xfrm>
              <a:off x="4461840" y="2132640"/>
              <a:ext cx="4286520" cy="324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NZ" sz="4400" spc="-1" strike="noStrike">
                <a:solidFill>
                  <a:srgbClr val="800000"/>
                </a:solidFill>
                <a:latin typeface="Arial Rounded MT Bold"/>
              </a:rPr>
              <a:t>The Gas &amp; Ice Giant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2"/>
          <p:cNvSpPr/>
          <p:nvPr/>
        </p:nvSpPr>
        <p:spPr>
          <a:xfrm>
            <a:off x="533520" y="1974960"/>
            <a:ext cx="4038480" cy="29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404040"/>
                </a:solidFill>
                <a:latin typeface="Arial Rounded MT Bold"/>
              </a:rPr>
              <a:t>Jupiter, Saturn, Uranus and Neptune are formed mainly out of hydrogen and helium and </a:t>
            </a:r>
            <a:r>
              <a:rPr b="1" lang="en-NZ" sz="2400" spc="-1" strike="noStrike">
                <a:solidFill>
                  <a:srgbClr val="404040"/>
                </a:solidFill>
                <a:latin typeface="Arial Rounded MT Bold"/>
              </a:rPr>
              <a:t>spin quickly</a:t>
            </a:r>
            <a:r>
              <a:rPr b="0" lang="en-NZ" sz="2400" spc="-1" strike="noStrike">
                <a:solidFill>
                  <a:srgbClr val="404040"/>
                </a:solidFill>
                <a:latin typeface="Arial Rounded MT Bold"/>
              </a:rPr>
              <a:t>. They all have rings although Saturn’s are the most obviou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1"/>
          <p:cNvSpPr/>
          <p:nvPr/>
        </p:nvSpPr>
        <p:spPr>
          <a:xfrm>
            <a:off x="2673360" y="1270080"/>
            <a:ext cx="377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2800" spc="-1" strike="noStrike">
                <a:solidFill>
                  <a:srgbClr val="404040"/>
                </a:solidFill>
                <a:latin typeface="Arial Rounded MT Bold"/>
              </a:rPr>
              <a:t>Gas giants are huge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2"/>
          <p:cNvSpPr/>
          <p:nvPr/>
        </p:nvSpPr>
        <p:spPr>
          <a:xfrm>
            <a:off x="4711680" y="5549760"/>
            <a:ext cx="396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Rounded MT Bold"/>
              </a:rPr>
              <a:t>Could the Earth have rings like Satur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8" name="Group 13"/>
          <p:cNvGrpSpPr/>
          <p:nvPr/>
        </p:nvGrpSpPr>
        <p:grpSpPr>
          <a:xfrm>
            <a:off x="457200" y="4869000"/>
            <a:ext cx="3683160" cy="1228680"/>
            <a:chOff x="457200" y="4869000"/>
            <a:chExt cx="3683160" cy="1228680"/>
          </a:xfrm>
        </p:grpSpPr>
        <p:sp>
          <p:nvSpPr>
            <p:cNvPr id="549" name="Rounded Rectangle 5"/>
            <p:cNvSpPr/>
            <p:nvPr/>
          </p:nvSpPr>
          <p:spPr>
            <a:xfrm>
              <a:off x="457200" y="4873680"/>
              <a:ext cx="3683160" cy="12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Rectangle 11"/>
            <p:cNvSpPr/>
            <p:nvPr/>
          </p:nvSpPr>
          <p:spPr>
            <a:xfrm>
              <a:off x="495000" y="4869000"/>
              <a:ext cx="3602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NZ" sz="2400" spc="-1" strike="noStrike">
                  <a:solidFill>
                    <a:srgbClr val="404040"/>
                  </a:solidFill>
                  <a:latin typeface="Arial Rounded MT Bold"/>
                </a:rPr>
                <a:t>Why are Uranus and Neptune called the </a:t>
              </a:r>
              <a:r>
                <a:rPr b="1" lang="en-NZ" sz="2400" spc="-1" strike="noStrike">
                  <a:solidFill>
                    <a:srgbClr val="404040"/>
                  </a:solidFill>
                  <a:latin typeface="Arial Rounded MT Bold"/>
                </a:rPr>
                <a:t>ice planets</a:t>
              </a:r>
              <a:r>
                <a:rPr b="0" lang="en-NZ" sz="2400" spc="-1" strike="noStrike">
                  <a:solidFill>
                    <a:srgbClr val="404040"/>
                  </a:solidFill>
                  <a:latin typeface="Arial Rounded MT Bold"/>
                </a:rPr>
                <a:t>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2"/>
          <p:cNvSpPr/>
          <p:nvPr/>
        </p:nvSpPr>
        <p:spPr>
          <a:xfrm>
            <a:off x="152280" y="152280"/>
            <a:ext cx="8839440" cy="657540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NZ" sz="4400" spc="-1" strike="noStrike">
                <a:solidFill>
                  <a:srgbClr val="800000"/>
                </a:solidFill>
                <a:latin typeface="Arial Rounded MT Bold"/>
              </a:rPr>
              <a:t>Dwarf planets and aster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2"/>
          <p:cNvSpPr/>
          <p:nvPr/>
        </p:nvSpPr>
        <p:spPr>
          <a:xfrm>
            <a:off x="324000" y="1413000"/>
            <a:ext cx="4752720" cy="22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404040"/>
                </a:solidFill>
                <a:latin typeface="Arial Rounded MT Bold"/>
              </a:rPr>
              <a:t>Dwarf planets are objects that </a:t>
            </a:r>
            <a:r>
              <a:rPr b="1" lang="en-NZ" sz="2400" spc="-1" strike="noStrike">
                <a:solidFill>
                  <a:srgbClr val="404040"/>
                </a:solidFill>
                <a:latin typeface="Arial Rounded MT Bold"/>
              </a:rPr>
              <a:t>orbit a star</a:t>
            </a:r>
            <a:r>
              <a:rPr b="0" lang="en-NZ" sz="2400" spc="-1" strike="noStrike">
                <a:solidFill>
                  <a:srgbClr val="404040"/>
                </a:solidFill>
                <a:latin typeface="Arial Rounded MT Bold"/>
              </a:rPr>
              <a:t> and </a:t>
            </a:r>
            <a:r>
              <a:rPr b="1" lang="en-NZ" sz="2400" spc="-1" strike="noStrike">
                <a:solidFill>
                  <a:srgbClr val="404040"/>
                </a:solidFill>
                <a:latin typeface="Arial Rounded MT Bold"/>
              </a:rPr>
              <a:t>are spherical </a:t>
            </a:r>
            <a:r>
              <a:rPr b="0" lang="en-NZ" sz="2400" spc="-1" strike="noStrike">
                <a:solidFill>
                  <a:srgbClr val="404040"/>
                </a:solidFill>
                <a:latin typeface="Arial Rounded MT Bold"/>
              </a:rPr>
              <a:t>but</a:t>
            </a:r>
            <a:r>
              <a:rPr b="1" lang="en-NZ" sz="2400" spc="-1" strike="noStrike">
                <a:solidFill>
                  <a:srgbClr val="404040"/>
                </a:solidFill>
                <a:latin typeface="Arial Rounded MT Bold"/>
              </a:rPr>
              <a:t> NOT</a:t>
            </a:r>
            <a:r>
              <a:rPr b="0" lang="en-NZ" sz="2400" spc="-1" strike="noStrike">
                <a:solidFill>
                  <a:srgbClr val="404040"/>
                </a:solidFill>
                <a:latin typeface="Arial Rounded MT Bold"/>
              </a:rPr>
              <a:t> </a:t>
            </a:r>
            <a:r>
              <a:rPr b="1" lang="en-NZ" sz="2400" spc="-1" strike="noStrike">
                <a:solidFill>
                  <a:srgbClr val="404040"/>
                </a:solidFill>
                <a:latin typeface="Arial Rounded MT Bold"/>
              </a:rPr>
              <a:t>cleared its orbit of other objects</a:t>
            </a:r>
            <a:r>
              <a:rPr b="0" lang="en-NZ" sz="2400" spc="-1" strike="noStrike">
                <a:solidFill>
                  <a:srgbClr val="404040"/>
                </a:solidFill>
                <a:latin typeface="Arial Rounded MT Bold"/>
              </a:rPr>
              <a:t>. Pluto and Ceres are now classified as a dwarf plane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Box 2"/>
          <p:cNvSpPr/>
          <p:nvPr/>
        </p:nvSpPr>
        <p:spPr>
          <a:xfrm>
            <a:off x="3549600" y="4005360"/>
            <a:ext cx="5270400" cy="23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NZ" sz="1800" spc="-1" strike="noStrike">
                <a:solidFill>
                  <a:srgbClr val="404040"/>
                </a:solidFill>
                <a:latin typeface="Arial Rounded MT Bold"/>
              </a:rPr>
              <a:t>Asteroids are found throughout the Solar System but most are </a:t>
            </a:r>
            <a:r>
              <a:rPr b="1" lang="en-NZ" sz="1800" spc="-1" strike="noStrike">
                <a:solidFill>
                  <a:srgbClr val="404040"/>
                </a:solidFill>
                <a:latin typeface="Arial Rounded MT Bold"/>
              </a:rPr>
              <a:t>between Mars and Jupiter in the Asteroid Bel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NZ" sz="1800" spc="-1" strike="noStrike">
                <a:solidFill>
                  <a:srgbClr val="404040"/>
                </a:solidFill>
                <a:latin typeface="Arial Rounded MT Bold"/>
              </a:rPr>
              <a:t>They are chunks of rock, that </a:t>
            </a:r>
            <a:r>
              <a:rPr b="1" lang="en-NZ" sz="1800" spc="-1" strike="noStrike">
                <a:solidFill>
                  <a:srgbClr val="404040"/>
                </a:solidFill>
                <a:latin typeface="Arial Rounded MT Bold"/>
              </a:rPr>
              <a:t>orbit a star</a:t>
            </a:r>
            <a:r>
              <a:rPr b="0" lang="en-NZ" sz="1800" spc="-1" strike="noStrike">
                <a:solidFill>
                  <a:srgbClr val="404040"/>
                </a:solidFill>
                <a:latin typeface="Arial Rounded MT Bold"/>
              </a:rPr>
              <a:t>, but </a:t>
            </a:r>
            <a:r>
              <a:rPr b="1" lang="en-NZ" sz="1800" spc="-1" strike="noStrike">
                <a:solidFill>
                  <a:srgbClr val="404040"/>
                </a:solidFill>
                <a:latin typeface="Arial Rounded MT Bold"/>
              </a:rPr>
              <a:t>are not spherical</a:t>
            </a:r>
            <a:r>
              <a:rPr b="0" lang="en-NZ" sz="1800" spc="-1" strike="noStrike">
                <a:solidFill>
                  <a:srgbClr val="404040"/>
                </a:solidFill>
                <a:latin typeface="Arial Rounded MT Bold"/>
              </a:rPr>
              <a:t>. They are made up of the ‘left over’ bits when the Terrestrial planets were being formed. Many asteroids also have moon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5" name="Group 4"/>
          <p:cNvGrpSpPr/>
          <p:nvPr/>
        </p:nvGrpSpPr>
        <p:grpSpPr>
          <a:xfrm>
            <a:off x="5076720" y="1268280"/>
            <a:ext cx="3610080" cy="2632320"/>
            <a:chOff x="5076720" y="1268280"/>
            <a:chExt cx="3610080" cy="2632320"/>
          </a:xfrm>
        </p:grpSpPr>
        <p:pic>
          <p:nvPicPr>
            <p:cNvPr id="556" name="Picture 6" descr=""/>
            <p:cNvPicPr/>
            <p:nvPr/>
          </p:nvPicPr>
          <p:blipFill>
            <a:blip r:embed="rId1"/>
            <a:stretch/>
          </p:blipFill>
          <p:spPr>
            <a:xfrm>
              <a:off x="5148720" y="1305000"/>
              <a:ext cx="3456000" cy="25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Rectangle 3"/>
            <p:cNvSpPr/>
            <p:nvPr/>
          </p:nvSpPr>
          <p:spPr>
            <a:xfrm>
              <a:off x="5076720" y="1268280"/>
              <a:ext cx="3610080" cy="2632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8" name="Picture 4" descr=""/>
          <p:cNvPicPr/>
          <p:nvPr/>
        </p:nvPicPr>
        <p:blipFill>
          <a:blip r:embed="rId2"/>
          <a:stretch/>
        </p:blipFill>
        <p:spPr>
          <a:xfrm>
            <a:off x="466560" y="4005360"/>
            <a:ext cx="3322800" cy="230328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1"/>
          <p:cNvSpPr/>
          <p:nvPr/>
        </p:nvSpPr>
        <p:spPr>
          <a:xfrm>
            <a:off x="395280" y="3933720"/>
            <a:ext cx="3467160" cy="240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6"/>
          <p:cNvSpPr/>
          <p:nvPr/>
        </p:nvSpPr>
        <p:spPr>
          <a:xfrm>
            <a:off x="152280" y="152280"/>
            <a:ext cx="8839440" cy="657540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NZ" sz="4400" spc="-1" strike="noStrike">
                <a:solidFill>
                  <a:srgbClr val="800000"/>
                </a:solidFill>
                <a:latin typeface="Arial Rounded MT Bold"/>
              </a:rPr>
              <a:t>Comets</a:t>
            </a: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50560" y="1320840"/>
            <a:ext cx="4537080" cy="30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404040"/>
                </a:solidFill>
                <a:latin typeface="Arial Rounded MT Bold"/>
              </a:rPr>
              <a:t>Comets are icy bodies that are usually frozen and orbit far from the Sun.</a:t>
            </a:r>
            <a:endParaRPr b="0" lang="en-US" sz="2400" spc="-1" strike="noStrike">
              <a:solidFill>
                <a:srgbClr val="13018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404040"/>
                </a:solidFill>
                <a:latin typeface="Arial Rounded MT Bold"/>
              </a:rPr>
              <a:t>If they fall in towards the Sun they </a:t>
            </a:r>
            <a:r>
              <a:rPr b="1" lang="en-NZ" sz="2400" spc="-1" strike="noStrike">
                <a:solidFill>
                  <a:srgbClr val="404040"/>
                </a:solidFill>
                <a:latin typeface="Arial Rounded MT Bold"/>
              </a:rPr>
              <a:t>melt</a:t>
            </a:r>
            <a:r>
              <a:rPr b="0" lang="en-NZ" sz="2400" spc="-1" strike="noStrike">
                <a:solidFill>
                  <a:srgbClr val="40404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13018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404040"/>
                </a:solidFill>
                <a:latin typeface="Arial Rounded MT Bold"/>
              </a:rPr>
              <a:t>As they melt they form large “tails” of dust and gas. </a:t>
            </a:r>
            <a:endParaRPr b="0" lang="en-US" sz="2400" spc="-1" strike="noStrike">
              <a:solidFill>
                <a:srgbClr val="130181"/>
              </a:solidFill>
              <a:latin typeface="Arial"/>
            </a:endParaRPr>
          </a:p>
        </p:txBody>
      </p:sp>
      <p:pic>
        <p:nvPicPr>
          <p:cNvPr id="563" name="Picture 3" descr=""/>
          <p:cNvPicPr/>
          <p:nvPr/>
        </p:nvPicPr>
        <p:blipFill>
          <a:blip r:embed="rId1"/>
          <a:srcRect l="0" t="0" r="6855" b="0"/>
          <a:stretch/>
        </p:blipFill>
        <p:spPr>
          <a:xfrm>
            <a:off x="4932360" y="1413000"/>
            <a:ext cx="3838680" cy="282888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White embroidery showing several people on the left pointing to Halley, top right, over a towe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4410000"/>
            <a:ext cx="2101680" cy="2187720"/>
          </a:xfrm>
          <a:prstGeom prst="rect">
            <a:avLst/>
          </a:prstGeom>
          <a:ln w="0">
            <a:noFill/>
          </a:ln>
        </p:spPr>
      </p:pic>
      <p:sp>
        <p:nvSpPr>
          <p:cNvPr id="565" name="TextBox 2"/>
          <p:cNvSpPr/>
          <p:nvPr/>
        </p:nvSpPr>
        <p:spPr>
          <a:xfrm>
            <a:off x="2556000" y="4149720"/>
            <a:ext cx="2447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 Rounded MT Bold"/>
              </a:rPr>
              <a:t>Halley’s Comet is very famous. It was seen as a sign of doom in the Middle Ages and appears as a warning to King Harold. It can be seen on the Bayeux tapestr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6" name="Group 4"/>
          <p:cNvGrpSpPr/>
          <p:nvPr/>
        </p:nvGrpSpPr>
        <p:grpSpPr>
          <a:xfrm>
            <a:off x="5124600" y="4653000"/>
            <a:ext cx="3768480" cy="1648800"/>
            <a:chOff x="5124600" y="4653000"/>
            <a:chExt cx="3768480" cy="1648800"/>
          </a:xfrm>
        </p:grpSpPr>
        <p:sp>
          <p:nvSpPr>
            <p:cNvPr id="567" name="Rectangle 1"/>
            <p:cNvSpPr/>
            <p:nvPr/>
          </p:nvSpPr>
          <p:spPr>
            <a:xfrm>
              <a:off x="5148360" y="4744800"/>
              <a:ext cx="3624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1" lang="en-NZ" sz="2400" spc="-1" strike="noStrike">
                  <a:solidFill>
                    <a:srgbClr val="800000"/>
                  </a:solidFill>
                  <a:latin typeface="Arial Rounded MT Bold"/>
                </a:rPr>
                <a:t>       </a:t>
              </a:r>
              <a:r>
                <a:rPr b="1" lang="en-NZ" sz="2400" spc="-1" strike="noStrike">
                  <a:solidFill>
                    <a:srgbClr val="404040"/>
                  </a:solidFill>
                  <a:latin typeface="Arial Rounded MT Bold"/>
                </a:rPr>
                <a:t>All comet tails point away from the Sun just like your shadow!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Rounded Rectangle 3"/>
            <p:cNvSpPr/>
            <p:nvPr/>
          </p:nvSpPr>
          <p:spPr>
            <a:xfrm>
              <a:off x="5124600" y="4653000"/>
              <a:ext cx="3768480" cy="1352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69" name="Picture 7" descr="C:\Users\Becky.Bateman\AppData\Local\Microsoft\Windows\Temporary Internet Files\Content.IE5\96FGOXJS\MC900384174[2].wmf"/>
          <p:cNvPicPr/>
          <p:nvPr/>
        </p:nvPicPr>
        <p:blipFill>
          <a:blip r:embed="rId4"/>
          <a:stretch/>
        </p:blipFill>
        <p:spPr>
          <a:xfrm>
            <a:off x="5219640" y="4653000"/>
            <a:ext cx="504720" cy="54432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5"/>
          <p:cNvSpPr/>
          <p:nvPr/>
        </p:nvSpPr>
        <p:spPr>
          <a:xfrm>
            <a:off x="4859280" y="1341360"/>
            <a:ext cx="3960720" cy="2951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324000" y="4365720"/>
            <a:ext cx="2232000" cy="23079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04:13:43Z</dcterms:created>
  <dc:creator>Dawn Muir</dc:creator>
  <dc:description/>
  <dc:language>en-US</dc:language>
  <cp:lastModifiedBy>Charlotte Rosier</cp:lastModifiedBy>
  <dcterms:modified xsi:type="dcterms:W3CDTF">2015-06-16T04:06:12Z</dcterms:modified>
  <cp:revision>57</cp:revision>
  <dc:subject/>
  <dc:title>Mau Mai Haere Mai Welcome to Carter Observatory</dc:title>
</cp:coreProperties>
</file>